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4BF-789D-42F8-98B8-25A5AF41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E08-5434-49DA-991E-C209A79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7A3-D09B-4BB4-9016-8FF33992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34F-213D-4ADB-8CA3-F9A76AE2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3EA-9F49-43C3-A8D6-607337C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B24-08EE-484E-8BC5-967C109B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CDA-22DA-4C9F-B8D0-6141A87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397-2B99-4EB4-85C4-4DDFE7D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959-A8F1-4604-8991-A0BB7C5E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B4D-02A7-49DE-BF79-74BB4FD5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5C7-222B-4ABF-8A96-94AE079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D06-9BC7-4133-9809-567AD000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7B1-8504-4738-B722-0561F7BD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u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486400" y="304920"/>
          <a:ext cx="2286000" cy="6259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      指     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3 zhi3  to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3600" y="0"/>
          <a:ext cx="2895480" cy="6900840"/>
        </p:xfrm>
        <a:graphic>
          <a:graphicData uri="http://schemas.openxmlformats.org/drawingml/2006/table">
            <a:tbl>
              <a:tblPr/>
              <a:tblGrid>
                <a:gridCol w="914400"/>
                <a:gridCol w="1015920"/>
                <a:gridCol w="9651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416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895480" y="0"/>
          <a:ext cx="2971800" cy="6905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i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4120" y="92160"/>
          <a:ext cx="2971800" cy="6878520"/>
        </p:xfrm>
        <a:graphic>
          <a:graphicData uri="http://schemas.openxmlformats.org/drawingml/2006/table">
            <a:tbl>
              <a:tblPr/>
              <a:tblGrid>
                <a:gridCol w="998280"/>
                <a:gridCol w="982800"/>
                <a:gridCol w="9907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895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403280"/>
          <a:ext cx="3429000" cy="55152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05520" y="1409760"/>
          <a:ext cx="3352680" cy="55087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305160" cy="32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480"/>
            <a:ext cx="3124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  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e3     z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67080" y="304920"/>
          <a:ext cx="4343400" cy="62481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ounce a ball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拍   球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1 qi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457200"/>
          <a:ext cx="4114800" cy="59277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47246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/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2 or b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681360" cy="36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943600" y="380880"/>
          <a:ext cx="2286000" cy="61308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open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i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29200" cy="37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6019920" y="533520"/>
          <a:ext cx="2361960" cy="600372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01:03Z</dcterms:created>
  <dc:creator>Ming S Tu</dc:creator>
  <dc:description/>
  <dc:language>en-US</dc:language>
  <cp:lastModifiedBy>Ming S Tu</cp:lastModifiedBy>
  <dcterms:modified xsi:type="dcterms:W3CDTF">2009-10-30T04:01:53Z</dcterms:modified>
  <cp:revision>3</cp:revision>
  <dc:subject/>
  <dc:title>Slide 1</dc:title>
</cp:coreProperties>
</file>