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86F-D41C-42DA-A13D-E387290A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A3F-0598-4685-A591-1F315DD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918-6F63-41E4-B857-15A259F7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EC5-3878-4434-A0F4-4881AF1A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120-86F5-4602-91B8-F0B6C358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49-F772-4BB3-B238-EFFC462D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031-8043-4D07-A4A7-F60001F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AF9-DA92-412B-8781-FA597F2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F68-170D-4BA0-A7D6-A124323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A7E-E085-44F2-8783-88BDBEC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F66-98D4-44B4-B25F-47C8C59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3A3-0DB7-404D-BE77-CC31863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D732-5ACB-4E22-B48C-0874B1F5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u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486400" y="304920"/>
          <a:ext cx="2286000" cy="6259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      指     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3 zhi3  to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3600" y="0"/>
          <a:ext cx="2895480" cy="6900840"/>
        </p:xfrm>
        <a:graphic>
          <a:graphicData uri="http://schemas.openxmlformats.org/drawingml/2006/table">
            <a:tbl>
              <a:tblPr/>
              <a:tblGrid>
                <a:gridCol w="914400"/>
                <a:gridCol w="1015920"/>
                <a:gridCol w="9651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416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895480" y="0"/>
          <a:ext cx="2971800" cy="6905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i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4120" y="92160"/>
          <a:ext cx="2971800" cy="6878520"/>
        </p:xfrm>
        <a:graphic>
          <a:graphicData uri="http://schemas.openxmlformats.org/drawingml/2006/table">
            <a:tbl>
              <a:tblPr/>
              <a:tblGrid>
                <a:gridCol w="998280"/>
                <a:gridCol w="982800"/>
                <a:gridCol w="9907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895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403280"/>
          <a:ext cx="3429000" cy="55152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05520" y="1409760"/>
          <a:ext cx="3352680" cy="55087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305160" cy="32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480"/>
            <a:ext cx="3124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  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e3     z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67080" y="304920"/>
          <a:ext cx="4343400" cy="62481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ounce a ball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拍   球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1 qi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457200"/>
          <a:ext cx="4114800" cy="59277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47246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/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2 or b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681360" cy="36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943600" y="380880"/>
          <a:ext cx="2286000" cy="61308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open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i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29200" cy="37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6019920" y="533520"/>
          <a:ext cx="2361960" cy="600372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01:03Z</dcterms:created>
  <dc:creator>Ming S Tu</dc:creator>
  <dc:description/>
  <dc:language>en-US</dc:language>
  <cp:lastModifiedBy>Ming S Tu</cp:lastModifiedBy>
  <dcterms:modified xsi:type="dcterms:W3CDTF">2009-10-30T04:01:53Z</dcterms:modified>
  <cp:revision>3</cp:revision>
  <dc:subject/>
  <dc:title>Slide 1</dc:title>
</cp:coreProperties>
</file>