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9A0-17CE-4AA9-9784-320A9E33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E9D8-99DE-41AB-8778-C96D5747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CB61-97E0-4609-9E72-DD69BE47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75E3-AE59-4ACF-B6AC-DDDE857D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CF9E-A5C8-4059-8AA7-9CB75754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BCDD-90CE-4C9C-80E3-B0CB9A53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09A4-DC9A-48EC-89CD-9280EE6E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432B-F00E-4FD7-ACDC-A2ABC8BA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895D-01F8-4DF2-B3E3-26F0CB8C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801E-9A55-4206-A454-B6B838E1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EEF8-5301-4F03-8DDC-FCEE33B0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B589-C67D-451E-9202-ECF060CD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96DA-8B0A-44A5-8DC4-DD69DC99A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念 一 念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我 有 十 个 手 指 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我 有 十 个 手 指 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五 个 在 左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五个 在 右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会 写 字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会 拍 球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就 是 不 开 口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th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u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3352680" cy="256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5486400" y="304920"/>
          <a:ext cx="2286000" cy="625932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an4   yi2   nian4 :     wo3   you3   shi2   ge   shou3   zhi3   tou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3   you3   shi2   ge   shou3   zhi3   tou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u3   ge   zai4   zuo3   ,   wu3 ge   zai4   you4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i4   xie3   zi4 ,   hui4   pai1   qiu2  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u4   shi4   bu4   kai1   kou3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念 一 念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我 有 十 个 手 指 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我 有 十 个 手 指 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五 个 在 左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五个 在 右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会 写 字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会 拍 球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就 是 不 开 口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an4   yi2   nian4 :     wo3   you3   shi2   ge   shou3   zhi3   tou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3   you3   shi2   ge   shou3   zhi3   tou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u3   ge   zai4   zuo3   ,   wu3 ge   zai4   you4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i4   xie3   zi4 ,   hui4   pai1   qiu2  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u4   shi4   bu4   kai1   kou3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533880" y="10666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手      指     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3 zhi3  tou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43600" y="0"/>
          <a:ext cx="2895480" cy="6900840"/>
        </p:xfrm>
        <a:graphic>
          <a:graphicData uri="http://schemas.openxmlformats.org/drawingml/2006/table">
            <a:tbl>
              <a:tblPr/>
              <a:tblGrid>
                <a:gridCol w="914400"/>
                <a:gridCol w="1015920"/>
                <a:gridCol w="96516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2666880"/>
            <a:ext cx="2416320" cy="281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2895480" y="0"/>
          <a:ext cx="2971800" cy="690552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hi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334120" y="92160"/>
          <a:ext cx="2971800" cy="6878520"/>
        </p:xfrm>
        <a:graphic>
          <a:graphicData uri="http://schemas.openxmlformats.org/drawingml/2006/table">
            <a:tbl>
              <a:tblPr/>
              <a:tblGrid>
                <a:gridCol w="998280"/>
                <a:gridCol w="982800"/>
                <a:gridCol w="990720"/>
              </a:tblGrid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533520" y="685800"/>
            <a:ext cx="3657600" cy="47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个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两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三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四个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五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2895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左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o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304920"/>
            <a:ext cx="28954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24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右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38080" y="1403280"/>
          <a:ext cx="3429000" cy="5515200"/>
        </p:xfrm>
        <a:graphic>
          <a:graphicData uri="http://schemas.openxmlformats.org/drawingml/2006/table">
            <a:tbl>
              <a:tblPr/>
              <a:tblGrid>
                <a:gridCol w="857520"/>
                <a:gridCol w="857160"/>
                <a:gridCol w="857160"/>
                <a:gridCol w="857160"/>
              </a:tblGrid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105520" y="1409760"/>
          <a:ext cx="3352680" cy="550872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  <a:gridCol w="838080"/>
              </a:tblGrid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3305160" cy="3295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609480"/>
            <a:ext cx="312408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  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e3     zi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267080" y="304920"/>
          <a:ext cx="4343400" cy="6248160"/>
        </p:xfrm>
        <a:graphic>
          <a:graphicData uri="http://schemas.openxmlformats.org/drawingml/2006/table">
            <a:tbl>
              <a:tblPr/>
              <a:tblGrid>
                <a:gridCol w="1085760"/>
                <a:gridCol w="1085760"/>
                <a:gridCol w="1085760"/>
                <a:gridCol w="1086120"/>
              </a:tblGrid>
              <a:tr h="103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bounce a ball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拍   球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1 qiu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4038480" cy="403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48320" y="457200"/>
          <a:ext cx="4114800" cy="59277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</a:tblGrid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04920"/>
            <a:ext cx="472464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/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2 or bu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3681360" cy="368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5943600" y="380880"/>
          <a:ext cx="2286000" cy="61308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open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开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i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5029200" cy="375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6019920" y="533520"/>
          <a:ext cx="2361960" cy="6003720"/>
        </p:xfrm>
        <a:graphic>
          <a:graphicData uri="http://schemas.openxmlformats.org/drawingml/2006/table">
            <a:tbl>
              <a:tblPr/>
              <a:tblGrid>
                <a:gridCol w="1180800"/>
                <a:gridCol w="1181160"/>
              </a:tblGrid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03:01:03Z</dcterms:created>
  <dc:creator>Ming S Tu</dc:creator>
  <dc:description/>
  <dc:language>en-US</dc:language>
  <cp:lastModifiedBy>Ming S Tu</cp:lastModifiedBy>
  <dcterms:modified xsi:type="dcterms:W3CDTF">2009-10-30T04:01:53Z</dcterms:modified>
  <cp:revision>3</cp:revision>
  <dc:subject/>
  <dc:title>Slide 1</dc:title>
</cp:coreProperties>
</file>