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ED8-6372-4040-825D-B8468CDE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6C5-6869-44FC-A091-9D883209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829-E011-4AB4-A406-FA5B7410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FE6-84F0-4907-803C-B9404719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7CC-AD82-4056-A3A3-79918B83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2D9-C17E-40E5-92A6-321C9200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EC8-62F2-4239-8862-BC8B3815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A15-5765-4E7A-9CCF-E94686EA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33D-60F6-4680-B10E-C41DCD4C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50F-E97C-48C1-9BD4-43B7B967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B7C-2794-4921-AF68-3062C444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B0B-6DD4-4401-B96B-961A32C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B064-CAA7-4B7A-AA08-280E050D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t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u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335268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5486400" y="304920"/>
          <a:ext cx="2286000" cy="625932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53388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      指     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3 zhi3  to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43600" y="0"/>
          <a:ext cx="2895480" cy="6900840"/>
        </p:xfrm>
        <a:graphic>
          <a:graphicData uri="http://schemas.openxmlformats.org/drawingml/2006/table">
            <a:tbl>
              <a:tblPr/>
              <a:tblGrid>
                <a:gridCol w="914400"/>
                <a:gridCol w="1015920"/>
                <a:gridCol w="9651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2416320" cy="281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2895480" y="0"/>
          <a:ext cx="2971800" cy="69055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hi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34120" y="92160"/>
          <a:ext cx="2971800" cy="6878520"/>
        </p:xfrm>
        <a:graphic>
          <a:graphicData uri="http://schemas.openxmlformats.org/drawingml/2006/table">
            <a:tbl>
              <a:tblPr/>
              <a:tblGrid>
                <a:gridCol w="998280"/>
                <a:gridCol w="982800"/>
                <a:gridCol w="99072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3520" y="685800"/>
            <a:ext cx="365760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289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左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04920"/>
            <a:ext cx="28954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1403280"/>
          <a:ext cx="3429000" cy="551520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7160"/>
                <a:gridCol w="857160"/>
              </a:tblGrid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105520" y="1409760"/>
          <a:ext cx="3352680" cy="550872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83808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305160" cy="3295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609480"/>
            <a:ext cx="31240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  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e3     zi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67080" y="304920"/>
          <a:ext cx="4343400" cy="6248160"/>
        </p:xfrm>
        <a:graphic>
          <a:graphicData uri="http://schemas.openxmlformats.org/drawingml/2006/table">
            <a:tbl>
              <a:tblPr/>
              <a:tblGrid>
                <a:gridCol w="1085760"/>
                <a:gridCol w="1085760"/>
                <a:gridCol w="1085760"/>
                <a:gridCol w="1086120"/>
              </a:tblGrid>
              <a:tr h="10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ounce a ball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拍   球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1 qi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03848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48320" y="457200"/>
          <a:ext cx="4114800" cy="59277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47246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/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2 or b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681360" cy="368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5943600" y="380880"/>
          <a:ext cx="2286000" cy="61308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open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i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5029200" cy="375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6019920" y="533520"/>
          <a:ext cx="2361960" cy="6003720"/>
        </p:xfrm>
        <a:graphic>
          <a:graphicData uri="http://schemas.openxmlformats.org/drawingml/2006/table">
            <a:tbl>
              <a:tblPr/>
              <a:tblGrid>
                <a:gridCol w="1180800"/>
                <a:gridCol w="118116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3:01:03Z</dcterms:created>
  <dc:creator>Ming S Tu</dc:creator>
  <dc:description/>
  <dc:language>en-US</dc:language>
  <cp:lastModifiedBy>Ming S Tu</cp:lastModifiedBy>
  <dcterms:modified xsi:type="dcterms:W3CDTF">2009-10-30T04:01:53Z</dcterms:modified>
  <cp:revision>3</cp:revision>
  <dc:subject/>
  <dc:title>Slide 1</dc:title>
</cp:coreProperties>
</file>