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144-01D3-4FB7-9F1E-9ADE6171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A53-7B26-4A9E-BF72-E86FEA8A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DEE-AA6D-4836-BE91-F60ED360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1BA-1124-4BAD-AE4F-E28FFBDB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8CE-602C-4DCE-992F-B3DDA2D8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F6D-9972-436E-828C-F3CEABB5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F19-CDC7-4E2A-B11C-A39DECED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6B1-7142-417C-BB9E-A712B5A8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EF8-0E28-4593-BE8A-0A775F38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CAB-C145-4196-880D-A4CCFCD8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82B-6CB5-4DA9-A91B-30D3B4BB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479-EC1F-487C-A0BB-CE6D823A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2424-3683-4E0C-A9A5-EAF1A29DD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t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u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335268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5486400" y="304920"/>
          <a:ext cx="2286000" cy="625932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念 一 念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我 有 十 个 手 指 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 个 在 左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五个 在 右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写 字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会 拍 球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就 是 不 开 口 </a:t>
            </a:r>
            <a:r>
              <a:rPr b="1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n4   yi2   nian4 :     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3   you3   shi2   ge   shou3   zhi3   tou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3   ge   zai4   zuo3   ,   wu3 ge   zai4   you4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i4   xie3   zi4 ,   hui4   pai1   qiu2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u4   shi4   bu4   kai1   kou3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53388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      指     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3 zhi3  to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43600" y="0"/>
          <a:ext cx="2895480" cy="6900840"/>
        </p:xfrm>
        <a:graphic>
          <a:graphicData uri="http://schemas.openxmlformats.org/drawingml/2006/table">
            <a:tbl>
              <a:tblPr/>
              <a:tblGrid>
                <a:gridCol w="914400"/>
                <a:gridCol w="1015920"/>
                <a:gridCol w="9651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2416320" cy="281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2895480" y="0"/>
          <a:ext cx="2971800" cy="69055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hi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34120" y="92160"/>
          <a:ext cx="2971800" cy="6878520"/>
        </p:xfrm>
        <a:graphic>
          <a:graphicData uri="http://schemas.openxmlformats.org/drawingml/2006/table">
            <a:tbl>
              <a:tblPr/>
              <a:tblGrid>
                <a:gridCol w="998280"/>
                <a:gridCol w="982800"/>
                <a:gridCol w="99072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3520" y="685800"/>
            <a:ext cx="365760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289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左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04920"/>
            <a:ext cx="28954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1403280"/>
          <a:ext cx="3429000" cy="551520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7160"/>
                <a:gridCol w="857160"/>
              </a:tblGrid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105520" y="1409760"/>
          <a:ext cx="3352680" cy="550872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838080"/>
              </a:tblGrid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305160" cy="3295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609480"/>
            <a:ext cx="31240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  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e3     zi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67080" y="304920"/>
          <a:ext cx="4343400" cy="6248160"/>
        </p:xfrm>
        <a:graphic>
          <a:graphicData uri="http://schemas.openxmlformats.org/drawingml/2006/table">
            <a:tbl>
              <a:tblPr/>
              <a:tblGrid>
                <a:gridCol w="1085760"/>
                <a:gridCol w="1085760"/>
                <a:gridCol w="1085760"/>
                <a:gridCol w="1086120"/>
              </a:tblGrid>
              <a:tr h="10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ounce a ball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拍   球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1 qi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03848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48320" y="457200"/>
          <a:ext cx="4114800" cy="59277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47246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/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2 or b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681360" cy="368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5943600" y="380880"/>
          <a:ext cx="2286000" cy="61308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open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i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5029200" cy="375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6019920" y="533520"/>
          <a:ext cx="2361960" cy="6003720"/>
        </p:xfrm>
        <a:graphic>
          <a:graphicData uri="http://schemas.openxmlformats.org/drawingml/2006/table">
            <a:tbl>
              <a:tblPr/>
              <a:tblGrid>
                <a:gridCol w="1180800"/>
                <a:gridCol w="118116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3:01:03Z</dcterms:created>
  <dc:creator>Ming S Tu</dc:creator>
  <dc:description/>
  <dc:language>en-US</dc:language>
  <cp:lastModifiedBy>Ming S Tu</cp:lastModifiedBy>
  <dcterms:modified xsi:type="dcterms:W3CDTF">2009-10-30T04:01:53Z</dcterms:modified>
  <cp:revision>3</cp:revision>
  <dc:subject/>
  <dc:title>Slide 1</dc:title>
</cp:coreProperties>
</file>