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21A9-0411-4CB4-B0ED-C81FF729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B66C-AAB8-42C1-A83D-0192591B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CB5D-AD25-4A61-AAB8-46BDD418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6555-0075-4E79-A510-4144714E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6A69-D726-4B72-A26A-10CAB4A4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82C7-0C6E-4AC4-A969-C262F334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BF05-3AE1-4CAC-9CF1-AEE835BD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2055-7937-4723-831B-DAB178A0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5640-7556-424A-B6F5-FBE60501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77ED-A8B2-494B-896B-3226D883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8F4B-52CD-41B4-AB8E-F01E7355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D393-5811-4479-BB41-CEC5A078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F6E6-D7B3-4D4F-A692-9A3776C57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沙灘上有很多腳印，有的大有的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629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馬路上有很多車子，有的新有的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781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學校裏有很多學生，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有的男生有的女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50385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花園裏有很多花，有的紅有的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5149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PMingLiU"/>
              </a:rPr>
              <a:t>桌子上有很多鉛筆，有的長有的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7624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20:33:44Z</dcterms:created>
  <dc:creator>Ming S Tu</dc:creator>
  <dc:description/>
  <dc:language>en-US</dc:language>
  <cp:lastModifiedBy>Ming S Tu</cp:lastModifiedBy>
  <dcterms:modified xsi:type="dcterms:W3CDTF">2009-12-22T19:13:54Z</dcterms:modified>
  <cp:revision>2</cp:revision>
  <dc:subject/>
  <dc:title>Slide 1</dc:title>
</cp:coreProperties>
</file>