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BE72-7764-4874-923F-CB3F54CE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3259-7DE2-4935-A6F5-5A7F84E7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751B-361A-4E05-A4A0-8A1B554D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8F31-1ECB-4E39-A2BD-B94188F0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1FC9-273E-435B-BB6B-BCCB9444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240F-970D-48A2-8DE6-25D5EDEC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815D-F9ED-4B76-840D-DA3F5760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C74C-A896-41A6-A636-B2025816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024A-6AA5-4833-B1A4-F1AC690C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A079-1F20-4D0F-8990-542F69D4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00E1-89C0-4391-AFCF-661C71ED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EF2D-2136-442B-8C0D-8DFDFF2B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8DC2-5C8A-4C95-BBDC-7679A7D88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沙灘上有很多腳印，有的大有的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629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馬路上有很多車子，有的新有的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781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學校裏有很多學生，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有的男生有的女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50385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花園裏有很多花，有的紅有的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5149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PMingLiU"/>
              </a:rPr>
              <a:t>桌子上有很多鉛筆，有的長有的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7624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20:33:44Z</dcterms:created>
  <dc:creator>Ming S Tu</dc:creator>
  <dc:description/>
  <dc:language>en-US</dc:language>
  <cp:lastModifiedBy>Ming S Tu</cp:lastModifiedBy>
  <dcterms:modified xsi:type="dcterms:W3CDTF">2009-12-22T19:13:54Z</dcterms:modified>
  <cp:revision>2</cp:revision>
  <dc:subject/>
  <dc:title>Slide 1</dc:title>
</cp:coreProperties>
</file>