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227-1D28-4C1D-845C-850CE0A3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F3F-73D9-4089-B497-C83AD24A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16F-43DB-467D-AD2A-2001C2FB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28A-EF1B-4184-BCCA-750D83BC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2F5-0224-45BE-895F-8A342CB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E5E-5EBF-4D47-8E99-B6699AB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669-747E-417E-984C-D358FA1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EAA-F920-4401-8991-BA667C32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B82-6BB8-4CC0-B364-10ACBB1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4CB-82DD-4F10-ADF3-8FD6B5F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9BD-71F5-4F25-A605-FFEFD18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F91-C114-42FD-9608-1EE08AD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C92-6EA6-4A1C-987F-34C52958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沙灘上有很多腳印，有的大有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馬路上有很多車子，有的新有的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學校裏有很多學生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有的男生有的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03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花園裏有很多花，有的紅有的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桌子上有很多鉛筆，有的長有的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33:44Z</dcterms:created>
  <dc:creator>Ming S Tu</dc:creator>
  <dc:description/>
  <dc:language>en-US</dc:language>
  <cp:lastModifiedBy>Ming S Tu</cp:lastModifiedBy>
  <dcterms:modified xsi:type="dcterms:W3CDTF">2009-12-22T19:13:54Z</dcterms:modified>
  <cp:revision>2</cp:revision>
  <dc:subject/>
  <dc:title>Slide 1</dc:title>
</cp:coreProperties>
</file>