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FE7-108F-4209-ADA0-45C115E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704-DB8B-4DB2-98F3-79A6201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9F5-7C43-48CE-9079-7705D006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509-7C95-47E6-9EC3-4FC93E88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D45-8D07-4DCC-B605-025637BF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9F4-7BF2-4CE8-B8B9-A18F23ED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4C2-5BB8-49C4-AEA3-CB10DDD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BCB-CF1A-4ED0-B592-FE73B452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ED2-704F-470A-848D-14DFCD01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13B-34CF-4841-BF7C-8069073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060-612F-4162-9A44-850E99D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F78-721C-4F76-98B3-88E8EFF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B31-0715-4FD0-9C60-34C088C0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沙灘上有很多腳印，有的大有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馬路上有很多車子，有的新有的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學校裏有很多學生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有的男生有的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03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花園裏有很多花，有的紅有的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桌子上有很多鉛筆，有的長有的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33:44Z</dcterms:created>
  <dc:creator>Ming S Tu</dc:creator>
  <dc:description/>
  <dc:language>en-US</dc:language>
  <cp:lastModifiedBy>Ming S Tu</cp:lastModifiedBy>
  <dcterms:modified xsi:type="dcterms:W3CDTF">2009-12-22T19:13:54Z</dcterms:modified>
  <cp:revision>2</cp:revision>
  <dc:subject/>
  <dc:title>Slide 1</dc:title>
</cp:coreProperties>
</file>