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A71-CAD2-4EEF-B996-E59624E2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9B5-7ED0-420F-B564-59D807B7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8D8-0FAA-4303-B004-F5B1C906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280-70F9-440E-9249-A2919987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880-BB0E-429D-B1B4-3979F573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3A0-A65E-444A-BBB5-540B00D1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FAD-9845-4DAB-9360-F3CD8508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927-4790-42AE-99D7-CA5F2D22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469-C3B0-4FBE-8BFE-91549D0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918-5D2F-4F54-984F-EC3F559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4B2-901E-4B8B-8769-39DF5741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E21-9921-44E3-8DC6-98BC0BDA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55E3-F8E6-42F5-9517-7C4E968C5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FZFangSong-Z02"/>
              </a:rPr>
              <a:t>樹上有三隻蟲，兩隻大，一隻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95320"/>
            <a:ext cx="6400800" cy="477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1447560" cy="103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1523880" cy="10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609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FZFangSong-Z02"/>
              </a:rPr>
              <a:t>我有兩個弟弟，一個八歲一個兩歲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1789200" cy="314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1665000" cy="19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3541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老師有八個球，五個藍色，三個黃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53080" y="20574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505320" y="15238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05740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62940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267080" y="2743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外婆家有四雙鞋子，三雙新，一雙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2666880" cy="214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312444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124440" cy="26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農場裏有很多動物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52:39Z</dcterms:created>
  <dc:creator>Ming S Tu</dc:creator>
  <dc:description/>
  <dc:language>en-US</dc:language>
  <cp:lastModifiedBy>Ming S Tu</cp:lastModifiedBy>
  <dcterms:modified xsi:type="dcterms:W3CDTF">2009-12-22T20:09:25Z</dcterms:modified>
  <cp:revision>3</cp:revision>
  <dc:subject/>
  <dc:title>Slide 1</dc:title>
</cp:coreProperties>
</file>