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EC0-9DAD-424E-85CE-49D4AF76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AA4-00BF-4CA2-AAE2-75C32A2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145-2EA0-4086-AC10-128404A0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40F-DF66-40E5-9E87-304838FE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7F4-7090-459F-BCDD-7B19F602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3EA-1CD7-400D-BA3B-1093E512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C8A-CE43-41EF-B986-FA9AB431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450-71A5-493B-A876-E94E3F0C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AE1-127D-4C26-8CB1-F018793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01C-2673-4277-836C-707C1E4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0B6-09B0-4AA8-9389-165D6539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F8E-328D-4239-B50F-D3EAC1E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F5CA-E6F0-4060-BDF0-0546D0A6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FZFangSong-Z02"/>
              </a:rPr>
              <a:t>樹上有三隻蟲，兩隻大，一隻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95320"/>
            <a:ext cx="6400800" cy="477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1447560" cy="103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1523880" cy="10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609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FZFangSong-Z02"/>
              </a:rPr>
              <a:t>我有兩個弟弟，一個八歲一個兩歲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1789200" cy="314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1665000" cy="19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3541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老師有八個球，五個藍色，三個黃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53080" y="20574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505320" y="15238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05740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62940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267080" y="2743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外婆家有四雙鞋子，三雙新，一雙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2666880" cy="214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312444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124440" cy="26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農場裏有很多動物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52:39Z</dcterms:created>
  <dc:creator>Ming S Tu</dc:creator>
  <dc:description/>
  <dc:language>en-US</dc:language>
  <cp:lastModifiedBy>Ming S Tu</cp:lastModifiedBy>
  <dcterms:modified xsi:type="dcterms:W3CDTF">2009-12-22T20:09:25Z</dcterms:modified>
  <cp:revision>3</cp:revision>
  <dc:subject/>
  <dc:title>Slide 1</dc:title>
</cp:coreProperties>
</file>