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B07C-804A-4028-AA55-DCC379F8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04C7-1616-444C-86CC-9A2170D0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756-FCC4-4019-BA62-32BEA6AD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0E5-3A8B-4C91-BE05-09F89FC4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65C9-A6DB-4CB1-9551-30961243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1799-6004-4557-AAF2-6ACFFEE3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3A5-D9A8-4287-82C0-3A224E7A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BB80-682A-41A8-A538-2F15A6D3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E00-B7BB-42EF-B832-8B5E79CE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BC8-3119-43A1-BFFE-07070A1A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A3D1-507B-4C07-A412-C403D3F7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936-E275-44DC-B4C5-311693D5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B880-C515-4DDB-B01D-1CCAD4DC6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馬路上有很多人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馬路上有很多人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沒有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FZFangSong-Z02"/>
              </a:rPr>
              <a:t>很多車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17204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馬路上有很多人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只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FZFangSong-Z02"/>
              </a:rPr>
              <a:t>一輛車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95680" y="1828800"/>
            <a:ext cx="43243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學校裏有很多學生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55308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學校裏有很多小朋友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沒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FZFangSong-Z02"/>
              </a:rPr>
              <a:t>很多老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2861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學校裏有很多小朋友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只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FZFangSong-Z02"/>
              </a:rPr>
              <a:t>一位老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2861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9:05:10Z</dcterms:created>
  <dc:creator>Ming S Tu</dc:creator>
  <dc:description/>
  <dc:language>en-US</dc:language>
  <cp:lastModifiedBy>Ming S Tu</cp:lastModifiedBy>
  <dcterms:modified xsi:type="dcterms:W3CDTF">2009-12-22T19:47:45Z</dcterms:modified>
  <cp:revision>4</cp:revision>
  <dc:subject/>
  <dc:title>Slide 1</dc:title>
</cp:coreProperties>
</file>