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46E-3BDB-4206-A096-A7338556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313-939E-4939-B029-A443D788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91E6-D9EF-4036-A01F-238A0136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F1A-06F9-4403-A38C-F2E91335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C0E-43A2-4C6A-A617-1C64D8A1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812-3E32-4923-8500-79E94A86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094-E160-472F-A980-90417D8B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583F-BE18-49F4-A4B2-BA88454D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409-066C-48C0-94F9-36EF09D3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4AC-1265-4DCC-9266-5C9A7955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C53A-E811-401D-962F-FB7B2903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1C8-D4C7-4BD6-B2B7-D9FC34B7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4F55-10DF-452B-8203-5D4C5A809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馬路上有很多人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馬路上有很多人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沒有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FZFangSong-Z02"/>
              </a:rPr>
              <a:t>很多車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17204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馬路上有很多人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只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FZFangSong-Z02"/>
              </a:rPr>
              <a:t>一輛車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95680" y="1828800"/>
            <a:ext cx="43243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學校裏有很多學生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55308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學校裏有很多小朋友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沒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FZFangSong-Z02"/>
              </a:rPr>
              <a:t>很多老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2861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學校裏有很多小朋友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只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FZFangSong-Z02"/>
              </a:rPr>
              <a:t>一位老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2861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9:05:10Z</dcterms:created>
  <dc:creator>Ming S Tu</dc:creator>
  <dc:description/>
  <dc:language>en-US</dc:language>
  <cp:lastModifiedBy>Ming S Tu</cp:lastModifiedBy>
  <dcterms:modified xsi:type="dcterms:W3CDTF">2009-12-22T19:47:45Z</dcterms:modified>
  <cp:revision>4</cp:revision>
  <dc:subject/>
  <dc:title>Slide 1</dc:title>
</cp:coreProperties>
</file>