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3ED-8469-48BD-8D0C-2DD51C16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E53-0A8F-416F-B204-17952B96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E22-0EB8-48F9-BE35-9C5484C5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6A6-19F0-46AB-9FB0-E4A0C339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08E2-EE3D-4E7F-9CE6-F583626F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FAE-812F-4DEE-96E0-50F6BE75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F50-125E-4C3C-99C5-B2A7A936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86A-01F2-408B-BD48-79E6E288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7E5-40CA-4817-B8D4-FFDFD528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4BD-F99F-4E28-8A03-83ECBB09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421-148B-4CC3-BBEA-8CD5A219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7AB-3815-4A58-B2AC-B21F9058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FC99-7A58-48B3-8A19-A2039A3E3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沒有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FZFangSong-Z02"/>
              </a:rPr>
              <a:t>很多車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720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只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一輛車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3243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學生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55308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小朋友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沒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很多老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2861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小朋友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只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一位老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2861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05:10Z</dcterms:created>
  <dc:creator>Ming S Tu</dc:creator>
  <dc:description/>
  <dc:language>en-US</dc:language>
  <cp:lastModifiedBy>Ming S Tu</cp:lastModifiedBy>
  <dcterms:modified xsi:type="dcterms:W3CDTF">2009-12-22T19:47:45Z</dcterms:modified>
  <cp:revision>4</cp:revision>
  <dc:subject/>
  <dc:title>Slide 1</dc:title>
</cp:coreProperties>
</file>