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26C-E035-4C91-AD57-B7F1A923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4C4-A8FB-43BA-9E7B-CC2FB653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68C-DBF4-4556-AE3A-5C9811AE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17D-E86D-40F0-916A-9CAE1574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884-2AFD-46AD-9B27-95B77DAF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DD4-F4B6-45F0-949E-B9A1A053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130-5352-4238-BEA2-0D9BA63F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115-4008-4C3D-8AA7-22B82E91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520-9619-49B8-A132-1095F492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679-85A3-46A5-858C-5A25D3D4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72C-39D1-4BCE-81F7-2CE03153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B1A9-6F15-431C-A31D-375BD74F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A7CE-85FF-4D28-A54B-C8823DE92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沒有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FZFangSong-Z02"/>
              </a:rPr>
              <a:t>很多車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720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只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一輛車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3243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學生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55308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小朋友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沒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很多老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2861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小朋友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只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一位老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2861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05:10Z</dcterms:created>
  <dc:creator>Ming S Tu</dc:creator>
  <dc:description/>
  <dc:language>en-US</dc:language>
  <cp:lastModifiedBy>Ming S Tu</cp:lastModifiedBy>
  <dcterms:modified xsi:type="dcterms:W3CDTF">2009-12-22T19:47:45Z</dcterms:modified>
  <cp:revision>4</cp:revision>
  <dc:subject/>
  <dc:title>Slide 1</dc:title>
</cp:coreProperties>
</file>