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BF7-83C3-4DA3-BF17-302ED35C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4FF-7875-4667-8B81-5B03CA10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61C-8095-45A8-A653-8433424B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C0C-4063-4A74-9ADA-883D3B3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A8F-0BA4-4107-9588-91297087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12F-5453-478A-BB07-CE06A9E3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974-4A63-4101-A948-D52C72CE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E36-0015-425D-8B95-08614F6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C11-C7CA-4A9E-96F3-D61B9DB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C7F-35FC-4F77-B8BF-30B65FC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F37-5D69-4B2B-A449-887A5AB7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8FD-28D6-4201-ACA6-B5B4F5D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D3F0-8B4C-4CE1-A590-80B9F927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車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紅綠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60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沙灘上有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9:01Z</dcterms:created>
  <dc:creator>Ming S Tu</dc:creator>
  <dc:description/>
  <dc:language>en-US</dc:language>
  <cp:lastModifiedBy>Ming S Tu</cp:lastModifiedBy>
  <dcterms:modified xsi:type="dcterms:W3CDTF">2009-12-05T00:09:20Z</dcterms:modified>
  <cp:revision>1</cp:revision>
  <dc:subject/>
  <dc:title>馬路上</dc:title>
</cp:coreProperties>
</file>