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221-B5C9-4369-990C-A0A86320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C4F-9490-4D82-9ED5-58F1A99E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16E-C997-442F-9022-7C31BACF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BC6-476D-4341-8DD5-F26F5739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BD3-4C11-4891-A93F-B947A66C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88E-3EF4-42C3-B4AD-7D05DA05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286-1801-4834-83E3-BA0BA20B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F22-F5C3-4734-AC27-8273AA3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26D-3A04-4C72-AFBF-594A48A9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251-08B3-4424-ACFC-A7FD936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30C-4E0C-4391-A427-524B5B6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5F-6A07-43C7-B52C-395ED5E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7E28-21C5-4906-9F63-82D3F33AB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車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紅綠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60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沙灘上有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9:01Z</dcterms:created>
  <dc:creator>Ming S Tu</dc:creator>
  <dc:description/>
  <dc:language>en-US</dc:language>
  <cp:lastModifiedBy>Ming S Tu</cp:lastModifiedBy>
  <dcterms:modified xsi:type="dcterms:W3CDTF">2009-12-05T00:09:20Z</dcterms:modified>
  <cp:revision>1</cp:revision>
  <dc:subject/>
  <dc:title>馬路上</dc:title>
</cp:coreProperties>
</file>