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3F0C-968D-48E2-8F57-40E53296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A7CC-8023-4079-9CAF-E52AF7A0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CC39-E4DC-4AFF-9BBD-0A982D9FC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54B9-A987-40E2-80DA-EB5557272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F172-2BF0-4AEB-B90A-6A113F80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FB71-69E1-4B5D-88E4-A98BB92D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2B28-4470-4712-86F9-2050604B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63E8-7A18-4FF1-A802-435E72D8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FD95-C375-4740-92E4-0AFEDF46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3684-37BC-4672-8CD5-6644AE8E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D4E8-A075-4CB1-98ED-7D6CD7E9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D3EB-F472-4970-B7D6-AD6BC5F2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551D-B3B4-465B-A062-4DE22CA84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馬路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533376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馬路上有很多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馬路上有很多車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59436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馬路上有很多紅綠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66880" y="1371600"/>
            <a:ext cx="36007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沙灘上有什麼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32484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00:09:01Z</dcterms:created>
  <dc:creator>Ming S Tu</dc:creator>
  <dc:description/>
  <dc:language>en-US</dc:language>
  <cp:lastModifiedBy>Ming S Tu</cp:lastModifiedBy>
  <dcterms:modified xsi:type="dcterms:W3CDTF">2009-12-05T00:09:20Z</dcterms:modified>
  <cp:revision>1</cp:revision>
  <dc:subject/>
  <dc:title>馬路上</dc:title>
</cp:coreProperties>
</file>