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098A-C790-4E3C-B862-7080B84DF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AF28-2340-4A00-A5D1-FE033731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7417-4557-4A2E-AB97-16E6B6BFF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B362-3CAB-492C-896B-3683FBC7D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091B-77CE-44A9-B671-373EBCB0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5C70-24E0-41BD-A24B-FDA94472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0E6C-0BE2-4A1C-ADB0-1CDC9133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77CE-45D8-4835-88C1-B017E1E4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662D-0B88-4341-91DC-FB18F764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26C3-8E8C-4B39-8DC1-2934E65F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32BC-8478-4D41-8F1B-55B9D0C0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B4EB-EBF5-417A-A40E-75211B3A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4EA9-E15F-4BAF-BE64-0B3B0B589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馬路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533376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馬路上有很多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馬路上有很多車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59436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馬路上有很多紅綠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66880" y="1371600"/>
            <a:ext cx="36007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沙灘上有什麼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32484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00:09:01Z</dcterms:created>
  <dc:creator>Ming S Tu</dc:creator>
  <dc:description/>
  <dc:language>en-US</dc:language>
  <cp:lastModifiedBy>Ming S Tu</cp:lastModifiedBy>
  <dcterms:modified xsi:type="dcterms:W3CDTF">2009-12-05T00:09:20Z</dcterms:modified>
  <cp:revision>1</cp:revision>
  <dc:subject/>
  <dc:title>馬路上</dc:title>
</cp:coreProperties>
</file>