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9F7-7AD1-486B-A674-80D1694E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DD1-7394-4DB8-AA6E-8B3582A7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4A6-4CCE-4FCE-8403-7CBCDB21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65E-7878-434C-8B68-607FAE13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312-D3ED-496D-ABE4-E37BB956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CD2-EF4E-4DF2-AE15-E7EC515B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85C-3460-4075-985F-1B2782B2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68B-BB6C-4E58-A3E4-C208CE8B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E59-43A4-4ACF-845E-5FC87DA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122-7D72-4482-BA48-CE0BBE5D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AAF-8A83-42AA-9363-4BDF92A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3CF-A778-45CB-B88B-93DD14B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D204-2B8B-463A-B17E-D769B1A36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6272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9117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4800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05000" y="1781280"/>
            <a:ext cx="293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90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67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00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3240" y="1962000"/>
            <a:ext cx="4457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前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後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6920" y="35053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47:32Z</dcterms:created>
  <dc:creator>Ming S Tu</dc:creator>
  <dc:description/>
  <dc:language>en-US</dc:language>
  <cp:lastModifiedBy>Ming S Tu</cp:lastModifiedBy>
  <dcterms:modified xsi:type="dcterms:W3CDTF">2009-12-04T23:58:49Z</dcterms:modified>
  <cp:revision>2</cp:revision>
  <dc:subject/>
  <dc:title>新</dc:title>
</cp:coreProperties>
</file>