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334-4D75-454B-972B-5313FDD5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A3C-D0A9-4B5A-9DF4-646C38D7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9A4-18CE-4074-B123-05920371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857-00AF-45E1-9576-8E38EF16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B8F-C64A-44E7-81A8-A55CD49A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6F6-A3C8-49D5-9B29-815D1D21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660-F550-4AB8-982D-A209836F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DEC-0A3B-4656-8350-D97E582E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0F3-DD61-4C6B-BF24-696CD6E0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DFB-ECA6-4D1C-8D66-C9D81220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E6D-B431-4790-B56A-DDAE198A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D66-0A99-4779-B5C6-E2B112D2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C452-087B-42EC-992B-46D72793C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56272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911760" cy="419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38480" y="48006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05000" y="1781280"/>
            <a:ext cx="29340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9908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67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86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700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3240" y="1962000"/>
            <a:ext cx="445752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前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後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96920" y="35053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3:47:32Z</dcterms:created>
  <dc:creator>Ming S Tu</dc:creator>
  <dc:description/>
  <dc:language>en-US</dc:language>
  <cp:lastModifiedBy>Ming S Tu</cp:lastModifiedBy>
  <dcterms:modified xsi:type="dcterms:W3CDTF">2009-12-04T23:58:49Z</dcterms:modified>
  <cp:revision>2</cp:revision>
  <dc:subject/>
  <dc:title>新</dc:title>
</cp:coreProperties>
</file>