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EB23-E931-4F9C-AF33-ED2924E89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FE4F-B44D-4661-8F4A-B6270220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F4A7-F672-4A22-8FA7-F3E2DCB7E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1B69-2B2F-4A22-A20E-C47F6C1CF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95CC-5E90-44A0-A812-BA82427E8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21EF-D679-4821-8678-9D09719AC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2037-48BE-40B2-8920-E146054B9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1973-95D4-4B22-9C34-BEC42CAB5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9C1F-B8A6-4546-8DDA-261DF9D13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C5F9-D088-4B47-834B-E5F17E68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8E55-BB72-4083-9895-AC06E456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DA62-6C50-4047-9A84-A7B08F30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D8763-B9E0-4E34-B431-6499BB8D3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52480" y="2286000"/>
            <a:ext cx="5562720" cy="40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911760" cy="4191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038480" y="480060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105000" y="1781280"/>
            <a:ext cx="293400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048120" y="1828800"/>
            <a:ext cx="299088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66756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438280" y="2057400"/>
            <a:ext cx="44863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8120" y="2438280"/>
            <a:ext cx="270036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52480" y="1523880"/>
            <a:ext cx="579132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343240" y="1962000"/>
            <a:ext cx="4457520" cy="29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前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352680" y="2209680"/>
            <a:ext cx="24386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後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352680" y="2209680"/>
            <a:ext cx="24386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438280" y="1219320"/>
            <a:ext cx="4000680" cy="4000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896920" y="350532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23:47:32Z</dcterms:created>
  <dc:creator>Ming S Tu</dc:creator>
  <dc:description/>
  <dc:language>en-US</dc:language>
  <cp:lastModifiedBy>Ming S Tu</cp:lastModifiedBy>
  <dcterms:modified xsi:type="dcterms:W3CDTF">2009-12-04T23:58:49Z</dcterms:modified>
  <cp:revision>2</cp:revision>
  <dc:subject/>
  <dc:title>新</dc:title>
</cp:coreProperties>
</file>