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5C7-5505-4AF1-B59B-EABC5D42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627-AD6F-4FE1-BEA8-2E73A086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E34-E975-4DEE-BE5C-E1657C71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D73-ADA6-40DF-A5A7-95226960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45D-BEA8-4D59-B4F0-D9B440A0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EFE-3BFF-454F-868E-BAA76381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971-DE0F-4E61-A222-F483542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DC4-8CA2-4889-A8CB-784C1FD9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668-8F3A-4C99-BF07-F6900A6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172-06E5-4FC7-9225-29C33DE5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4BF-D5CC-4067-9914-9E91C37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21C-8501-4D2D-B00E-32137406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8D3A-F4C3-422A-8A66-6101B7382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9117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4800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05000" y="1781280"/>
            <a:ext cx="293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90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67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3240" y="1962000"/>
            <a:ext cx="4457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後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6920" y="35053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47:32Z</dcterms:created>
  <dc:creator>Ming S Tu</dc:creator>
  <dc:description/>
  <dc:language>en-US</dc:language>
  <cp:lastModifiedBy>Ming S Tu</cp:lastModifiedBy>
  <dcterms:modified xsi:type="dcterms:W3CDTF">2009-12-04T23:58:49Z</dcterms:modified>
  <cp:revision>2</cp:revision>
  <dc:subject/>
  <dc:title>新</dc:title>
</cp:coreProperties>
</file>