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F3C5-9063-4C27-A098-E7DEF303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2EB6-CFA6-415B-8AC4-06365346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BAE6-5464-409F-9132-4D870F9B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26A1-CDFC-4CD8-8AB1-78336332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39C9-FB13-4FAC-8D96-D53BBD69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4ED-3D28-4AFD-AA30-0312B7DE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3D0-CCB5-46C0-874C-842ED3CD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97C-C21D-4A91-8027-F12FD22B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9B63-6621-4322-A8AC-7E126BB4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9AC1-699A-498D-9667-F53FE79E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7AE-223E-47B4-BDB3-3A3EBC93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4CD-2083-421F-8D8E-66BF4339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EB3B-239F-405E-94FE-A4A11241D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誰的腳印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7718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人的腳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324480" cy="46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小鳥的腳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9436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小狗的腳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29718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大象的腳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39387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這是馬的腳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4960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3:20:39Z</dcterms:created>
  <dc:creator>Ming S Tu</dc:creator>
  <dc:description/>
  <dc:language>en-US</dc:language>
  <cp:lastModifiedBy>Ming S Tu</cp:lastModifiedBy>
  <dcterms:modified xsi:type="dcterms:W3CDTF">2009-12-04T23:33:02Z</dcterms:modified>
  <cp:revision>2</cp:revision>
  <dc:subject/>
  <dc:title>這是誰的腳印？</dc:title>
</cp:coreProperties>
</file>