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3D51-5B0D-43A2-ABA6-CB8830763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4F07-3182-4C6D-928A-C4F39D4B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408C-BAF5-48F9-92A2-FDC6F94C4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A762-E88D-491E-BD04-79A784710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F711-5E36-4468-A83E-03E0DCEB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AF24-5B8F-4290-A881-322B1EA9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5196-10A2-43DD-9BDF-7781BBEA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EEB6-C281-48DA-9323-2698AEDC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253F-96CC-4633-A661-B563993C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40AD-83DA-41C8-89E5-25A7A6C1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C22C-05FB-44B5-8F8B-811F290E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4DBC-28A9-47F3-8D76-D1DC66DE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C008-B2AC-4444-B591-BF2D1E64B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這是誰的腳印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577188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這是人的腳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324480" cy="463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這是小鳥的腳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9436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這是小狗的腳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29718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這是大象的腳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39387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這是馬的腳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49604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3:20:39Z</dcterms:created>
  <dc:creator>Ming S Tu</dc:creator>
  <dc:description/>
  <dc:language>en-US</dc:language>
  <cp:lastModifiedBy>Ming S Tu</cp:lastModifiedBy>
  <dcterms:modified xsi:type="dcterms:W3CDTF">2009-12-04T23:33:02Z</dcterms:modified>
  <cp:revision>2</cp:revision>
  <dc:subject/>
  <dc:title>這是誰的腳印？</dc:title>
</cp:coreProperties>
</file>