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57B-9D41-4140-AB42-5FADF9EF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28B-5BF9-44D1-A50D-B48EAECF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8D0-0F69-4043-80B6-08231A8D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A3E-4932-4068-A2E6-9D30AB36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7AE-CB47-41F9-8310-24F99AA3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4F5-90D5-47D8-AA00-2AA977C6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C48-B9E2-4B3A-A6F0-81E7B24D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C94-9B68-4D9C-8AB6-5BA89E54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5AD-541A-40F3-9968-89903605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C3E-F4B0-4E0E-93C9-22C28BDB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C2F-1742-4208-A124-388AC4C7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C52-6FFB-4C55-AF33-9A21F5B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A545-4126-48A5-92EE-9CFC9993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誰的腳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718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人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324480" cy="46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小鳥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36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小狗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71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大象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938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馬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4960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20:39Z</dcterms:created>
  <dc:creator>Ming S Tu</dc:creator>
  <dc:description/>
  <dc:language>en-US</dc:language>
  <cp:lastModifiedBy>Ming S Tu</cp:lastModifiedBy>
  <dcterms:modified xsi:type="dcterms:W3CDTF">2009-12-04T23:33:02Z</dcterms:modified>
  <cp:revision>2</cp:revision>
  <dc:subject/>
  <dc:title>這是誰的腳印？</dc:title>
</cp:coreProperties>
</file>