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42C-A2C6-4978-887D-4019831A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19F-6CD1-45CC-A891-18CBAC75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B7F-C337-4BCD-ACEC-F2B391A6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5B6-790A-4E87-868E-8B16E25F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155-23A8-4B3D-9A81-A80DC0B6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EB1-73B3-47B3-8E4F-7D21E72B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B60-5610-40ED-BB2F-9E32003E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ADB-5016-4AA5-8886-984144BA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BCF-118E-4903-9E36-8C1880C7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83C-9324-4872-B96B-808B01B7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1DD-841E-4146-8AA1-F705E626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35D-ED00-45B2-811C-D356C99F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B24E-7629-44D7-853F-3FA98877D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誰的腳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718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人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324480" cy="46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小鳥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36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小狗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71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大象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938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馬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4960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20:39Z</dcterms:created>
  <dc:creator>Ming S Tu</dc:creator>
  <dc:description/>
  <dc:language>en-US</dc:language>
  <cp:lastModifiedBy>Ming S Tu</cp:lastModifiedBy>
  <dcterms:modified xsi:type="dcterms:W3CDTF">2009-12-04T23:33:02Z</dcterms:modified>
  <cp:revision>2</cp:revision>
  <dc:subject/>
  <dc:title>這是誰的腳印？</dc:title>
</cp:coreProperties>
</file>