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9C28-B126-4BBD-9ECC-2152CDCF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A4D7-366C-432A-AABD-120A7EC5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2553-7B1A-49DD-BC6D-2F5049C4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D43B-C88E-4FC4-97B3-AC507EEA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777-3AA0-49A0-93ED-B692F1FF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D35-6F4E-43BE-B287-10FED2BA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4C9B-9089-44A3-8BF3-0E6A7635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BA9-825E-487A-B917-9421A250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45F2-223D-451F-B3F5-8161DFB5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6EF-3158-42BC-8011-ABF4E558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63F9-299C-41F3-8E2F-9BDDCDB5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E5A-BB76-4DD7-9347-FA19A3B1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0080-CDEE-49F6-9A4A-DC7F0C1B3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沙灘上有很多腳印，有的大有的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629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馬路上有很多車子，有的新有的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781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學校裏有很多學生，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有的男生有的女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50385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花園裏有很多花，有的紅有的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5149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PMingLiU"/>
              </a:rPr>
              <a:t>桌子上有很多鉛筆，有的長有的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762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20:33:44Z</dcterms:created>
  <dc:creator>Ming S Tu</dc:creator>
  <dc:description/>
  <dc:language>en-US</dc:language>
  <cp:lastModifiedBy>Ming S Tu</cp:lastModifiedBy>
  <dcterms:modified xsi:type="dcterms:W3CDTF">2009-12-22T19:13:54Z</dcterms:modified>
  <cp:revision>2</cp:revision>
  <dc:subject/>
  <dc:title>Slide 1</dc:title>
</cp:coreProperties>
</file>