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CA71-E267-4075-B3D3-0C52352B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31E-26F7-4AB9-9AF3-65981F82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FAD-9BAF-4053-81CC-4EBD4321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859-4A7A-4BD0-A435-E1661D5E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4E3-9B59-4DF6-A340-8D518372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E06-2DA7-4EBC-9492-F7D6DE45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8CEC-7407-4808-87B7-5BE9C336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55D-14D2-4932-9244-E22FF2CD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309-2BD0-43E6-A2B7-D970BBCC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5842-7335-4D6B-B581-00F4ED8C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A9F-A963-4CC1-AA61-5A67B09C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92B8-EF01-47E9-800E-06BB0AA3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7E69-E1A4-4BAD-9801-342C44A74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沙灘上有很多腳印，有的大有的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629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馬路上有很多車子，有的新有的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781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學校裏有很多學生，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有的男生有的女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50385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花園裏有很多花，有的紅有的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5149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PMingLiU"/>
              </a:rPr>
              <a:t>桌子上有很多鉛筆，有的長有的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762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20:33:44Z</dcterms:created>
  <dc:creator>Ming S Tu</dc:creator>
  <dc:description/>
  <dc:language>en-US</dc:language>
  <cp:lastModifiedBy>Ming S Tu</cp:lastModifiedBy>
  <dcterms:modified xsi:type="dcterms:W3CDTF">2009-12-22T19:13:54Z</dcterms:modified>
  <cp:revision>2</cp:revision>
  <dc:subject/>
  <dc:title>Slide 1</dc:title>
</cp:coreProperties>
</file>