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031-9478-435D-93A1-1F99C6F1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C11-48D4-483A-AD46-B49E501E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FA7-075F-41F2-A05A-32C70954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88-41B9-4AA0-BF96-99A26635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512-5423-4C5F-BE44-0F9169C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B4B-2130-43AB-8B2B-85566B5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F47-AFE5-47A1-9398-2A2A1E9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3AA-2948-4FDB-9C2D-ED57B0F5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2FC-D6D9-4C75-A4F1-B68D25F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A15-DE77-41EF-810B-2817A7A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BD1-96D3-4246-943B-50EBF78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357-F5EE-4BCF-B083-3B6830B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3A5-F542-4CD3-BDB1-E2EA3714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FZFangSong-Z02"/>
              </a:rPr>
              <a:t>樹上有三隻蟲，兩隻大，一隻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95320"/>
            <a:ext cx="6400800" cy="477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144756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004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FZFangSong-Z02"/>
              </a:rPr>
              <a:t>我有兩個弟弟，一個八歲一個兩歲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1789200" cy="314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66500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541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老師有八個球，五個藍色，三個黃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53080" y="20574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505320" y="15238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2940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267080" y="2743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FZFangSong-Z02"/>
              </a:rPr>
              <a:t>外婆家有四雙鞋子，三雙新，一雙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2666880" cy="214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312444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124440" cy="26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FZFangSong-Z02"/>
              </a:rPr>
              <a:t>農場裏有很多動物。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52:39Z</dcterms:created>
  <dc:creator>Ming S Tu</dc:creator>
  <dc:description/>
  <dc:language>en-US</dc:language>
  <cp:lastModifiedBy>Ming S Tu</cp:lastModifiedBy>
  <dcterms:modified xsi:type="dcterms:W3CDTF">2009-12-22T20:09:25Z</dcterms:modified>
  <cp:revision>3</cp:revision>
  <dc:subject/>
  <dc:title>Slide 1</dc:title>
</cp:coreProperties>
</file>