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B307-8FFD-43E7-AC00-370A3A66F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8EFC-7936-42C9-91E6-1B3F3A2F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BDE4-ED00-401C-BC92-AB54F13ED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ADC1-6B65-4CED-A28D-E74538EBF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F14B-1A96-4470-89E2-AE78E8AD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3E76-87CD-4E43-9A1C-9F8F01DC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8395-83A8-49DB-B10E-3278B811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9F4D-03E1-4FE5-A4D3-33E573CA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6412-9919-4CD2-A723-5EB07D6A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9852-9B8A-4FE3-8DAE-26150A40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9ED7-5244-43EB-9BC4-F3762230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6E4C-BCC2-4DB4-8051-90B14C02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8C30-3C01-4D7C-94EF-1884346E6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馬路上有很多人。。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3248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馬路上有很多人。。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FZFangSong-Z02"/>
              </a:rPr>
              <a:t>可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FZFangSong-Z02"/>
              </a:rPr>
              <a:t>沒有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FZFangSong-Z02"/>
              </a:rPr>
              <a:t>很多車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417204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馬路上有很多人。。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FZFangSong-Z02"/>
              </a:rPr>
              <a:t>可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FZFangSong-Z02"/>
              </a:rPr>
              <a:t>只有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FZFangSong-Z02"/>
              </a:rPr>
              <a:t>一輛車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495680" y="1828800"/>
            <a:ext cx="432432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學校裏有很多學生。。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553080" cy="46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學校裏有很多小朋友。。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FZFangSong-Z02"/>
              </a:rPr>
              <a:t>可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FZFangSong-Z02"/>
              </a:rPr>
              <a:t>沒有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FZFangSong-Z02"/>
              </a:rPr>
              <a:t>很多老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19720" y="2286000"/>
            <a:ext cx="428616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學校裏有很多小朋友。。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FZFangSong-Z02"/>
              </a:rPr>
              <a:t>可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FZFangSong-Z02"/>
              </a:rPr>
              <a:t>只有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FZFangSong-Z02"/>
              </a:rPr>
              <a:t>一位老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419720" y="2209680"/>
            <a:ext cx="428616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9:05:10Z</dcterms:created>
  <dc:creator>Ming S Tu</dc:creator>
  <dc:description/>
  <dc:language>en-US</dc:language>
  <cp:lastModifiedBy>Ming S Tu</cp:lastModifiedBy>
  <dcterms:modified xsi:type="dcterms:W3CDTF">2009-12-22T19:47:45Z</dcterms:modified>
  <cp:revision>4</cp:revision>
  <dc:subject/>
  <dc:title>Slide 1</dc:title>
</cp:coreProperties>
</file>