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6EC6-14A6-4447-9176-97E5947DE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653C-34AD-4957-9A90-4DD84D5A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789C-48A6-4168-BFC8-6E1A6C607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91DC-9FFC-4113-8D15-C064E1660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FE92-52FD-4625-A926-CAE0D090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CCDF-B68E-46EB-9D34-F2F4E1AD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5E36-3B0B-4BA0-9CCC-2E8C3B220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C8CD-2D10-403F-B5CE-973608AD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DB5E-0690-4385-A4AD-76BF34B6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7695-63B6-4F92-8B0E-01FFA4A2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0FA9-E79D-4632-B039-00CFAFA1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E131-3EA2-4435-B155-0E0A1B61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1A28-C489-430A-B7D4-A89BED5CD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馬路上有很多人。。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3248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馬路上有很多人。。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FZFangSong-Z02"/>
              </a:rPr>
              <a:t>可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FZFangSong-Z02"/>
              </a:rPr>
              <a:t>沒有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FZFangSong-Z02"/>
              </a:rPr>
              <a:t>很多車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417204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馬路上有很多人。。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FZFangSong-Z02"/>
              </a:rPr>
              <a:t>可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FZFangSong-Z02"/>
              </a:rPr>
              <a:t>只有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FZFangSong-Z02"/>
              </a:rPr>
              <a:t>一輛車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495680" y="1828800"/>
            <a:ext cx="432432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學校裏有很多學生。。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553080" cy="46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學校裏有很多小朋友。。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FZFangSong-Z02"/>
              </a:rPr>
              <a:t>可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FZFangSong-Z02"/>
              </a:rPr>
              <a:t>沒有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FZFangSong-Z02"/>
              </a:rPr>
              <a:t>很多老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19720" y="2286000"/>
            <a:ext cx="428616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學校裏有很多小朋友。。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FZFangSong-Z02"/>
              </a:rPr>
              <a:t>可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FZFangSong-Z02"/>
              </a:rPr>
              <a:t>只有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FZFangSong-Z02"/>
              </a:rPr>
              <a:t>一位老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419720" y="2209680"/>
            <a:ext cx="428616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9:05:10Z</dcterms:created>
  <dc:creator>Ming S Tu</dc:creator>
  <dc:description/>
  <dc:language>en-US</dc:language>
  <cp:lastModifiedBy>Ming S Tu</cp:lastModifiedBy>
  <dcterms:modified xsi:type="dcterms:W3CDTF">2009-12-22T19:47:45Z</dcterms:modified>
  <cp:revision>4</cp:revision>
  <dc:subject/>
  <dc:title>Slide 1</dc:title>
</cp:coreProperties>
</file>