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E01-E14C-480C-BF5D-A8361219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44E-6985-42D7-8EEE-6E2AEAB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34-1E23-4827-9B8F-7E8233AC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2A3-9C0D-47A9-98E9-B475A802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F43-D02A-431F-8A26-398E5CF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B9D-FA6F-49A3-B77E-227094D5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35D-F56B-4FDF-A2FA-F5F35B31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124-7758-40AD-BF93-06EB7624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8D5-DE1A-4393-B1FF-151832F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89D-D831-42D1-8947-BD5DD50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294-27B1-4348-8507-BF368E4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7FF-09E7-4AEE-B607-479AD1E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B2F-72A1-436B-8688-17553C78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馬路上有很多紅綠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60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沙灘上有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9:01Z</dcterms:created>
  <dc:creator>Ming S Tu</dc:creator>
  <dc:description/>
  <dc:language>en-US</dc:language>
  <cp:lastModifiedBy>Ming S Tu</cp:lastModifiedBy>
  <dcterms:modified xsi:type="dcterms:W3CDTF">2009-12-05T00:09:20Z</dcterms:modified>
  <cp:revision>1</cp:revision>
  <dc:subject/>
  <dc:title>馬路上</dc:title>
</cp:coreProperties>
</file>