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468D2-EFC0-408A-A9D4-BC66B8603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0C029-D7C4-496A-AE8F-DCA7202D5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4A7BC-A417-4005-99F9-0B97EEACC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6965D-FD8C-405F-B223-B00CD4D4E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7F955-2F05-4C65-A80E-ED116D84A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C543A-FE00-4658-B3C4-5C7BF0CB4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F946D-2AA9-441F-80C5-BDBA5078C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91E87-A316-483F-AEED-889BBE0D3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0E4AB-48B6-414D-A6FF-B2158C8FC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C6A2A-0A69-403F-9761-C96C98D23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EFACF-74AF-463A-B9A9-39C9117C0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03A80-4EF8-4BA8-A8E8-FF4FD54F3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F677E-A324-4E4D-863D-DE7DD42FE2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752480" y="2286000"/>
            <a:ext cx="5562720" cy="40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743200" y="1295280"/>
            <a:ext cx="3911760" cy="41911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4038480" y="4800600"/>
            <a:ext cx="22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105000" y="1781280"/>
            <a:ext cx="2934000" cy="32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3048120" y="1828800"/>
            <a:ext cx="2990880" cy="41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219320" y="1523880"/>
            <a:ext cx="6667560" cy="44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大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438280" y="2057400"/>
            <a:ext cx="448632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8120" y="2438280"/>
            <a:ext cx="2700360" cy="26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752480" y="1523880"/>
            <a:ext cx="5791320" cy="43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343240" y="1962000"/>
            <a:ext cx="4457520" cy="29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前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352680" y="2209680"/>
            <a:ext cx="243864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後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352680" y="2209680"/>
            <a:ext cx="243864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438280" y="1219320"/>
            <a:ext cx="4000680" cy="40003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896920" y="3505320"/>
            <a:ext cx="74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4T23:47:32Z</dcterms:created>
  <dc:creator>Ming S Tu</dc:creator>
  <dc:description/>
  <dc:language>en-US</dc:language>
  <cp:lastModifiedBy>Ming S Tu</cp:lastModifiedBy>
  <dcterms:modified xsi:type="dcterms:W3CDTF">2009-12-04T23:58:49Z</dcterms:modified>
  <cp:revision>2</cp:revision>
  <dc:subject/>
  <dc:title>新</dc:title>
</cp:coreProperties>
</file>