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85015-E97B-471E-BF42-B443ACA51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7A588-BDA5-4483-A340-55BFFEA9C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852E3-434D-49DC-ABB8-C10436BAB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688B8-5C7E-4A8A-89FF-CD4AD6E76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6C0DE-E6E2-4E3F-B5A3-2C2D09841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D028F-2F51-4EBF-8FA2-24828CE37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545DA-6B6C-4C1B-8458-0444D3AAC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5BA3B-7B2A-4F7B-A8D7-96EFF8475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89FBE-1A90-45B6-8DEA-0F62F1775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F1683-DBAE-4279-8025-4715CEC03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93C0F-B70C-45B4-A3FA-16613A2D3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270DD-29D9-409D-8E71-46665326B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88811-4B5C-41B5-A8CD-B0B1B2B695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752480" y="2286000"/>
            <a:ext cx="5562720" cy="40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743200" y="1295280"/>
            <a:ext cx="3911760" cy="41911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4038480" y="4800600"/>
            <a:ext cx="22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105000" y="1781280"/>
            <a:ext cx="2934000" cy="32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3048120" y="1828800"/>
            <a:ext cx="2990880" cy="41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219320" y="1523880"/>
            <a:ext cx="6667560" cy="44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大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438280" y="2057400"/>
            <a:ext cx="448632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8120" y="2438280"/>
            <a:ext cx="2700360" cy="26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752480" y="1523880"/>
            <a:ext cx="5791320" cy="43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343240" y="1962000"/>
            <a:ext cx="4457520" cy="29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前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352680" y="2209680"/>
            <a:ext cx="243864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後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352680" y="2209680"/>
            <a:ext cx="243864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438280" y="1219320"/>
            <a:ext cx="4000680" cy="40003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896920" y="3505320"/>
            <a:ext cx="74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4T23:47:32Z</dcterms:created>
  <dc:creator>Ming S Tu</dc:creator>
  <dc:description/>
  <dc:language>en-US</dc:language>
  <cp:lastModifiedBy>Ming S Tu</cp:lastModifiedBy>
  <dcterms:modified xsi:type="dcterms:W3CDTF">2009-12-04T23:58:49Z</dcterms:modified>
  <cp:revision>2</cp:revision>
  <dc:subject/>
  <dc:title>新</dc:title>
</cp:coreProperties>
</file>