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2115-F918-46E0-BEBB-09215A34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8840-5794-4A51-92A0-88BB6D57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7010-7C99-41E9-9428-D8FB46A0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935D-CDF5-440C-9148-156442A6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13C0-038E-4521-89C9-7E6045E5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CF6B-7119-4A0F-878C-40BAB26F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0FC3-9FBC-42A6-9F4C-74C579EF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DC27-D435-4B95-90F9-1990D416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504A-E1CA-465C-9740-62798759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56FD-8E20-4DBE-BCE5-10802A8A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A810-36E1-42A4-93CE-B62ACDB0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14C-83E0-4B4C-ACA7-043B8648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775C-CAC3-41EC-BB63-9B2FD201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D5DE-FA5F-4284-A551-2241948F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81C3-4348-42C1-B28B-F684C274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2B33-806B-46AA-BE7A-2EC46DCB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267F-0627-4F8B-83B4-ACCCA410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4C7-4AEF-4DE0-87E2-7BAFFC06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54A-5975-4D02-9FA7-F29B9448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41E6-3335-4825-9285-D12FE01A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AA3-D282-435E-AF3F-B71252A9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E530-BB5E-48D0-9923-A157AD78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1DC-4ED0-47EC-9082-C5E56033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C32C-791C-464D-9DC8-B52F8BB9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9D7B-069C-41A8-B7F3-559C6A43A3E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2A77-6191-4D25-BC9E-F645F188142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FZKTPY01"/>
                <a:ea typeface="FZKTPY01"/>
              </a:rPr>
              <a:t>大家好</a:t>
            </a:r>
            <a:r>
              <a:rPr b="1" lang="en-US" sz="4400" spc="-1" strike="noStrike">
                <a:solidFill>
                  <a:srgbClr val="000000"/>
                </a:solidFill>
                <a:latin typeface="FZKTPY01"/>
                <a:ea typeface="FZKTPY01"/>
              </a:rPr>
              <a:t>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219320"/>
            <a:ext cx="71625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是杜老师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今年二十三岁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家里有三个人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爸爸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妈妈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还有我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喜欢跳舞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也喜欢吃水果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360960" cy="3810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029200" y="1905120"/>
            <a:ext cx="33526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ony the Tig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has four legs, two ears, one tail, and lots of teet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is looking for a friend to play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Wingdings 3"/>
                <a:ea typeface="Wingdings 3"/>
              </a:rPr>
              <a:t>说说看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360960" cy="3810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410080" y="685800"/>
            <a:ext cx="3353040" cy="50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Tony the Tiger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这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老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has four legs, two ears, one tail, and lots of teeth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他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条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个耳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(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条尾巴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还有 许多 牙齿</a:t>
            </a:r>
            <a:r>
              <a:rPr b="1" lang="en-US" sz="2400" spc="-1" strike="noStrike">
                <a:solidFill>
                  <a:srgbClr val="000000"/>
                </a:solidFill>
                <a:latin typeface="FZPY01"/>
                <a:ea typeface="FZ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is looking for a friend to play wi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他在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找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朋友跟他玩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1676520"/>
            <a:ext cx="39625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Simon the Squirr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has three younger brothers, five older sisters, one mother, and one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likes to climb mountains looking for food to eat in the t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914400"/>
            <a:ext cx="396252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Simon the Squirr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ZKTPY01"/>
                <a:ea typeface="FZKTPY01"/>
              </a:rPr>
              <a:t>这是</a:t>
            </a:r>
            <a:r>
              <a:rPr b="1" lang="en-US" sz="2800" spc="-1" strike="noStrike">
                <a:solidFill>
                  <a:srgbClr val="000000"/>
                </a:solidFill>
                <a:latin typeface="FZKTPY01"/>
                <a:ea typeface="FZKTPY01"/>
              </a:rPr>
              <a:t>Simon (</a:t>
            </a:r>
            <a:r>
              <a:rPr b="1" lang="zh-CN" sz="28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松鼠</a:t>
            </a:r>
            <a:r>
              <a:rPr b="1" lang="en-US" sz="2800" spc="-1" strike="noStrike">
                <a:solidFill>
                  <a:srgbClr val="000000"/>
                </a:solidFill>
                <a:latin typeface="FZKTPY01"/>
                <a:ea typeface="FZKTPY01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has three younger brothers, five older sisters, one mother, and one fa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他有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弟弟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五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姐姐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妈妈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还有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爸爸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likes to climb mountains looking for food to eat in the tr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他喜欢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上山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在树林里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找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东西吃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ff6600"/>
                </a:solidFill>
                <a:latin typeface="FZKTPY01"/>
                <a:ea typeface="FZKTPY01"/>
              </a:rPr>
              <a:t>你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FZKTPY01"/>
                <a:ea typeface="FZKTPY01"/>
              </a:rPr>
              <a:t>生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FZKTPY01"/>
                <a:ea typeface="FZKTPY01"/>
              </a:rPr>
              <a:t>日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FZKTPY01"/>
                <a:ea typeface="FZKTPY01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FZKTPY01"/>
                <a:ea typeface="FZKTPY01"/>
              </a:rPr>
              <a:t>哪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FZKTPY01"/>
                <a:ea typeface="FZKTPY01"/>
              </a:rPr>
              <a:t>一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天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220968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FZKTPY01"/>
                <a:ea typeface="FZKTPY01"/>
              </a:rPr>
              <a:t>我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FZKTPY01"/>
                <a:ea typeface="FZKTPY01"/>
              </a:rPr>
              <a:t>生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日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FZKTPY01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2     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日 </a:t>
            </a:r>
            <a:r>
              <a:rPr b="0" lang="en-US" sz="2400" spc="-1" strike="noStrike">
                <a:solidFill>
                  <a:srgbClr val="ff0000"/>
                </a:solidFill>
                <a:latin typeface="FZKTPY01"/>
                <a:ea typeface="FZKTPY01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号</a:t>
            </a:r>
            <a:r>
              <a:rPr b="0" lang="en-US" sz="2400" spc="-1" strike="noStrike">
                <a:solidFill>
                  <a:srgbClr val="ff0000"/>
                </a:solidFill>
                <a:latin typeface="FZKTPY01"/>
                <a:ea typeface="FZKTPY01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1986     </a:t>
            </a:r>
            <a:r>
              <a:rPr b="0" lang="zh-CN" sz="2400" spc="-1" strike="noStrike">
                <a:solidFill>
                  <a:srgbClr val="00cc00"/>
                </a:solidFill>
                <a:latin typeface="Arial"/>
                <a:ea typeface="FZKTPY01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66880" y="380988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Kai M TT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u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=    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Kai M TT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à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=    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Kai M TT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iá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=    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1752480"/>
            <a:ext cx="4114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is is William.  He is a b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day is May 20.  It is his birthday toda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e was born in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e likes to eat fruit.  Bananas are his favo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2120" y="889560"/>
            <a:ext cx="777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一二三，三二一，一二三四五六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七个阿姨来摘果，七个花篮儿手中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七棵树上结七样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苹果、桃儿、石榴、柿子，李子、栗子</a:t>
            </a: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梨</a:t>
            </a: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759240"/>
            <a:ext cx="685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坡上立着一只鹅，坡下就是一条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宽宽的河，肥肥的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鹅要过河，河要渡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不知是鹅过河，还是河渡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4400" y="426960"/>
            <a:ext cx="777240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一个大嫂子，一个大小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大嫂子跟大小子比包饺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看是大嫂子包的饺子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还是大小子包的饺子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再看大嫂子包的饺子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还是大小子包的饺子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大嫂子包的饺子又小又好又不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大小子包的饺子又小又少又不好</a:t>
            </a:r>
            <a:r>
              <a:rPr b="0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FZKTPY01"/>
              </a:rPr>
              <a:t>自我介绍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3880"/>
            <a:ext cx="74674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FZKTPY01"/>
              </a:rPr>
              <a:t>是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 am…) 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FZKTPY01"/>
              </a:rPr>
              <a:t>今</a:t>
            </a:r>
            <a:r>
              <a:rPr b="1" lang="zh-CN" sz="3600" spc="-1" strike="noStrike">
                <a:solidFill>
                  <a:srgbClr val="00cc00"/>
                </a:solidFill>
                <a:latin typeface="Comic Sans MS"/>
                <a:ea typeface="FZKTPY01"/>
              </a:rPr>
              <a:t>年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 am… years old) ___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FZKTPY01"/>
              </a:rPr>
              <a:t>岁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FZKTPY01"/>
              </a:rPr>
              <a:t>家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有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n my family there are…  people)_____</a:t>
            </a:r>
            <a:r>
              <a:rPr b="1" lang="zh-CN" sz="3600" spc="-1" strike="noStrike">
                <a:solidFill>
                  <a:srgbClr val="00cc00"/>
                </a:solidFill>
                <a:latin typeface="Comic Sans MS"/>
                <a:ea typeface="FZKTPY01"/>
              </a:rPr>
              <a:t>人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喜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FZKTPY01"/>
              </a:rPr>
              <a:t>欢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 like…)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66680" y="609480"/>
            <a:ext cx="71629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FZKTPY01"/>
                <a:ea typeface="FZKTPY01"/>
              </a:rPr>
              <a:t>一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二</a:t>
            </a:r>
            <a:r>
              <a:rPr b="1" lang="zh-CN" sz="4800" spc="-1" strike="noStrike">
                <a:solidFill>
                  <a:srgbClr val="0000ff"/>
                </a:solidFill>
                <a:latin typeface="FZKTPY01"/>
                <a:ea typeface="FZKTPY01"/>
              </a:rPr>
              <a:t>三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四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五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六</a:t>
            </a:r>
            <a:r>
              <a:rPr b="1" lang="zh-CN" sz="4800" spc="-1" strike="noStrike">
                <a:solidFill>
                  <a:srgbClr val="0000ff"/>
                </a:solidFill>
                <a:latin typeface="FZKTPY01"/>
                <a:ea typeface="FZKTPY01"/>
              </a:rPr>
              <a:t>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我</a:t>
            </a:r>
            <a:r>
              <a:rPr b="1" lang="zh-CN" sz="48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1" lang="zh-CN" sz="4800" spc="-1" strike="noStrike">
                <a:solidFill>
                  <a:srgbClr val="00cc00"/>
                </a:solidFill>
                <a:latin typeface="FZKTPY01"/>
                <a:ea typeface="FZKTPY01"/>
              </a:rPr>
              <a:t>朋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友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哪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这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这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我</a:t>
            </a:r>
            <a:r>
              <a:rPr b="1" lang="zh-CN" sz="48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1" lang="zh-CN" sz="4800" spc="-1" strike="noStrike">
                <a:solidFill>
                  <a:srgbClr val="00cc00"/>
                </a:solidFill>
                <a:latin typeface="FZKTPY01"/>
                <a:ea typeface="FZKTPY01"/>
              </a:rPr>
              <a:t>朋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友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这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一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二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三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四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五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上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山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找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虎</a:t>
            </a:r>
            <a:r>
              <a:rPr b="1" lang="zh-CN" sz="38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05740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虎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找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不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到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看  见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小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松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鼠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57600"/>
            <a:ext cx="8382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松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鼠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有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几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只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？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一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二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三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四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五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一  二  三  四  五，上  山  找  老  虎</a:t>
            </a:r>
            <a:r>
              <a:rPr b="1" lang="zh-CN" sz="38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9051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老  虎  找  不  到，看  见  小  松  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657600"/>
            <a:ext cx="8382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松  鼠  有  几  只？一  二  三  四  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一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二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三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四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五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上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山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找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虎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20574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虎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找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不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到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看  见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小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松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鼠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65760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松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鼠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有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几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只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？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一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二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三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四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五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一  二  三  四  五，上  山  找  老  虎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20574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老  虎  找  不  到，看  见  小  松  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3657600"/>
            <a:ext cx="8382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松  鼠  有  几  只？一  二  三  四  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6870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写写看：拼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3886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jǐ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h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2209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ir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3962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1676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宋体"/>
              </a:rPr>
              <a:t>lăo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h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2209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sō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sh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zhă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3352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kà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ji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676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695240" cy="2200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72000" y="533520"/>
            <a:ext cx="2362320" cy="1788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058160" y="1219320"/>
            <a:ext cx="1962000" cy="2590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666880" y="4343400"/>
            <a:ext cx="2238480" cy="1765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800600" y="3200400"/>
            <a:ext cx="2133720" cy="1778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2612880" y="1676520"/>
            <a:ext cx="1635120" cy="1904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7134120" y="4419720"/>
            <a:ext cx="2009880" cy="1711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304920" y="3657600"/>
            <a:ext cx="21384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6:40:58Z</dcterms:created>
  <dc:creator>Ming S Tu</dc:creator>
  <dc:description/>
  <dc:language>en-US</dc:language>
  <cp:lastModifiedBy>Ming S Tu</cp:lastModifiedBy>
  <dcterms:modified xsi:type="dcterms:W3CDTF">2009-09-05T13:57:21Z</dcterms:modified>
  <cp:revision>33</cp:revision>
  <dc:subject/>
  <dc:title>一 二 三 四 五，上 山 找 老 虎  yī    èr   sān   sì   wǔ    shàng</dc:title>
</cp:coreProperties>
</file>