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E844-34BB-4508-8185-132EF3BA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FCF-842E-44BF-8C30-C87DFA36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164A-E249-42D7-BDB4-7EDDD233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950-7667-4994-95CF-76A5CCB2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9F20-29EE-4157-A445-28EA9E80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9E9B-15F0-4EDB-94EE-C7D0D7F8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4773-C29F-41C8-B187-E91143E1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0E1C-E018-4D96-8E0F-520B7B50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9236-A93A-4C77-85A1-D9517782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881E-78B1-408D-A408-53B96DF1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02BB-EC55-43DE-A40A-6DA15A5D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BB2-1C33-4183-B416-6640502D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8F93-3DFB-402C-AE86-F9C980A6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04F9-4BB7-4AD9-9AB1-16945FEF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3F32-365A-4740-A689-1050B617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5CA0-0FF6-4951-9A01-B20A7D38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2975-E736-42B5-ABBA-D06789E8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B62-8F9E-41C7-BC3D-81ED3EDF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C55-6748-41CA-8357-9E2BFE09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17D-19B0-4FD1-B040-AF500DC8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4EF-B1BB-4FDE-9681-3D0A946C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41B-88EF-407D-9436-66DCB6A7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3DD-DD26-4F1D-A8FF-1E7FBAE5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FA9-ED02-4AFF-BD2C-AA3DEBC2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091F-6A7B-440C-B9FC-BDFE685C70B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177A-B64B-4E9A-B48C-B942F8B7A7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FZKTPY01"/>
                <a:ea typeface="FZKTPY01"/>
              </a:rPr>
              <a:t>大家好</a:t>
            </a:r>
            <a:r>
              <a:rPr b="1" lang="en-US" sz="4400" spc="-1" strike="noStrike">
                <a:solidFill>
                  <a:srgbClr val="000000"/>
                </a:solidFill>
                <a:latin typeface="FZKTPY01"/>
                <a:ea typeface="FZKTPY01"/>
              </a:rPr>
              <a:t>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219320"/>
            <a:ext cx="71625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是杜老师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今年二十三岁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家里有三个人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爸爸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妈妈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还有我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我喜欢跳舞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FZKTPY01"/>
                <a:ea typeface="FZKTPY01"/>
              </a:rPr>
              <a:t>也喜欢吃水果</a:t>
            </a:r>
            <a:r>
              <a:rPr b="1" lang="en-US" sz="36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360960" cy="3810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029200" y="1905120"/>
            <a:ext cx="33526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ony the Tig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has four legs, two ears, one tail, and lots of tee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is looking for a friend to play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Wingdings 3"/>
                <a:ea typeface="Wingdings 3"/>
              </a:rPr>
              <a:t>说说看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360960" cy="3810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410080" y="685800"/>
            <a:ext cx="3353040" cy="50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ony the Tiger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这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老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has four legs, two ears, one tail, and lots of teeth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他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条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FZKTPY01"/>
              </a:rPr>
              <a:t>个耳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(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Fangsong S TT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条尾巴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还有 许多 牙齿</a:t>
            </a:r>
            <a:r>
              <a:rPr b="1" lang="en-US" sz="2400" spc="-1" strike="noStrike">
                <a:solidFill>
                  <a:srgbClr val="000000"/>
                </a:solidFill>
                <a:latin typeface="FZPY01"/>
                <a:ea typeface="FZ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is looking for a friend to play wi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他在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找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朋友跟他玩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1676520"/>
            <a:ext cx="39625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Simon the Squirr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has three younger brothers, five older sisters, one mother, and one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likes to climb mountains looking for food to eat in the t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914400"/>
            <a:ext cx="396252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Simon the Squirr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ZKTPY01"/>
                <a:ea typeface="FZKTPY01"/>
              </a:rPr>
              <a:t>这是</a:t>
            </a:r>
            <a:r>
              <a:rPr b="1" lang="en-US" sz="2800" spc="-1" strike="noStrike">
                <a:solidFill>
                  <a:srgbClr val="000000"/>
                </a:solidFill>
                <a:latin typeface="FZKTPY01"/>
                <a:ea typeface="FZKTPY01"/>
              </a:rPr>
              <a:t>Simon (</a:t>
            </a:r>
            <a:r>
              <a:rPr b="1" lang="zh-CN" sz="28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松鼠</a:t>
            </a:r>
            <a:r>
              <a:rPr b="1" lang="en-US" sz="2800" spc="-1" strike="noStrike">
                <a:solidFill>
                  <a:srgbClr val="000000"/>
                </a:solidFill>
                <a:latin typeface="FZKTPY01"/>
                <a:ea typeface="FZKTPY01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has three younger brothers, five older sisters, one mother, and one fa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他有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弟弟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五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姐姐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妈妈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还有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个爸爸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 likes to climb mountains looking for food to eat in the tr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FZKTPY0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他喜欢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上山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在树林里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SC UFangsong S TT"/>
                <a:ea typeface="TSC UFangsong S TT"/>
              </a:rPr>
              <a:t>找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东西吃</a:t>
            </a:r>
            <a:r>
              <a:rPr b="1" lang="en-US" sz="24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ff6600"/>
                </a:solidFill>
                <a:latin typeface="FZKTPY01"/>
                <a:ea typeface="FZKTPY01"/>
              </a:rPr>
              <a:t>你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FZKTPY01"/>
                <a:ea typeface="FZKTPY01"/>
              </a:rPr>
              <a:t>生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FZKTPY01"/>
                <a:ea typeface="FZKTPY01"/>
              </a:rPr>
              <a:t>日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FZKTPY01"/>
                <a:ea typeface="FZKTPY01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FZKTPY01"/>
                <a:ea typeface="FZKTPY01"/>
              </a:rPr>
              <a:t>哪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FZKTPY01"/>
                <a:ea typeface="FZKTPY01"/>
              </a:rPr>
              <a:t>一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ZKTPY01"/>
                <a:ea typeface="FZKTPY01"/>
              </a:rPr>
              <a:t>天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22096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FZKTPY01"/>
                <a:ea typeface="FZKTPY01"/>
              </a:rPr>
              <a:t>我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FZKTPY01"/>
                <a:ea typeface="FZKTPY01"/>
              </a:rPr>
              <a:t>生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日</a:t>
            </a:r>
            <a:r>
              <a:rPr b="0" lang="zh-CN" sz="24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FZKTPY01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     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日 </a:t>
            </a:r>
            <a:r>
              <a:rPr b="0" lang="en-US" sz="2400" spc="-1" strike="noStrike">
                <a:solidFill>
                  <a:srgbClr val="ff0000"/>
                </a:solidFill>
                <a:latin typeface="FZKTPY01"/>
                <a:ea typeface="FZKTPY01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FZKTPY01"/>
                <a:ea typeface="FZKTPY01"/>
              </a:rPr>
              <a:t>号</a:t>
            </a:r>
            <a:r>
              <a:rPr b="0" lang="en-US" sz="2400" spc="-1" strike="noStrike">
                <a:solidFill>
                  <a:srgbClr val="ff0000"/>
                </a:solidFill>
                <a:latin typeface="FZKTPY01"/>
                <a:ea typeface="FZKTPY01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1986     </a:t>
            </a:r>
            <a:r>
              <a:rPr b="0" lang="zh-CN" sz="2400" spc="-1" strike="noStrike">
                <a:solidFill>
                  <a:srgbClr val="00cc00"/>
                </a:solidFill>
                <a:latin typeface="Arial"/>
                <a:ea typeface="FZKTPY01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380988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Kai M TT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u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=    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Kai M TT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à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=    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SC UKai M TT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iá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=    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说说看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1752480"/>
            <a:ext cx="4114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is is William.  He is a b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day is May 20.  It is his birthday toda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e was born in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e likes to eat fruit.  Bananas are his favo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88956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一二三，三二一，一二三四五六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七个阿姨来摘果，七个花篮儿手中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七棵树上结七样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苹果、桃儿、石榴、柿子，李子、栗子</a:t>
            </a: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梨</a:t>
            </a: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759240"/>
            <a:ext cx="685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坡上立着一只鹅，坡下就是一条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宽宽的河，肥肥的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鹅要过河，河要渡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不知是鹅过河，还是河渡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4400" y="426960"/>
            <a:ext cx="777240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一个大嫂子，一个大小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大嫂子跟大小子比包饺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看是大嫂子包的饺子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还是大小子包的饺子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再看大嫂子包的饺子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还是大小子包的饺子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大嫂子包的饺子又小又好又不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大小子包的饺子又小又少又不好</a:t>
            </a:r>
            <a:r>
              <a:rPr b="0" lang="en-US" sz="32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FZKTPY01"/>
              </a:rPr>
              <a:t>自我介绍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3880"/>
            <a:ext cx="74674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FZKTPY01"/>
              </a:rPr>
              <a:t>是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 am…) 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FZKTPY01"/>
              </a:rPr>
              <a:t>今</a:t>
            </a:r>
            <a:r>
              <a:rPr b="1" lang="zh-CN" sz="3600" spc="-1" strike="noStrike">
                <a:solidFill>
                  <a:srgbClr val="00cc00"/>
                </a:solidFill>
                <a:latin typeface="Comic Sans MS"/>
                <a:ea typeface="FZKTPY01"/>
              </a:rPr>
              <a:t>年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 am… years old) ___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FZKTPY01"/>
              </a:rPr>
              <a:t>岁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FZKTPY01"/>
              </a:rPr>
              <a:t>家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有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n my family there are…  people)_____</a:t>
            </a:r>
            <a:r>
              <a:rPr b="1" lang="zh-CN" sz="3600" spc="-1" strike="noStrike">
                <a:solidFill>
                  <a:srgbClr val="00cc00"/>
                </a:solidFill>
                <a:latin typeface="Comic Sans MS"/>
                <a:ea typeface="FZKTPY01"/>
              </a:rPr>
              <a:t>人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Comic Sans MS"/>
                <a:ea typeface="FZKTPY01"/>
              </a:rPr>
              <a:t>我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FZKTPY01"/>
              </a:rPr>
              <a:t>喜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FZKTPY01"/>
              </a:rPr>
              <a:t>欢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FZKTPY01"/>
              </a:rPr>
              <a:t>(I like…)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66680" y="609480"/>
            <a:ext cx="71629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FZKTPY01"/>
                <a:ea typeface="FZKTPY01"/>
              </a:rPr>
              <a:t>一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二</a:t>
            </a:r>
            <a:r>
              <a:rPr b="1" lang="zh-CN" sz="4800" spc="-1" strike="noStrike">
                <a:solidFill>
                  <a:srgbClr val="0000ff"/>
                </a:solidFill>
                <a:latin typeface="FZKTPY01"/>
                <a:ea typeface="FZKTPY01"/>
              </a:rPr>
              <a:t>三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四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五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六</a:t>
            </a:r>
            <a:r>
              <a:rPr b="1" lang="zh-CN" sz="4800" spc="-1" strike="noStrike">
                <a:solidFill>
                  <a:srgbClr val="0000ff"/>
                </a:solidFill>
                <a:latin typeface="FZKTPY01"/>
                <a:ea typeface="FZKTPY01"/>
              </a:rPr>
              <a:t>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我</a:t>
            </a:r>
            <a:r>
              <a:rPr b="1" lang="zh-CN" sz="48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1" lang="zh-CN" sz="4800" spc="-1" strike="noStrike">
                <a:solidFill>
                  <a:srgbClr val="00cc00"/>
                </a:solidFill>
                <a:latin typeface="FZKTPY01"/>
                <a:ea typeface="FZKTPY01"/>
              </a:rPr>
              <a:t>朋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友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哪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这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这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我</a:t>
            </a:r>
            <a:r>
              <a:rPr b="1" lang="zh-CN" sz="4800" spc="-1" strike="noStrike">
                <a:solidFill>
                  <a:srgbClr val="9900ff"/>
                </a:solidFill>
                <a:latin typeface="FZKTPY01"/>
                <a:ea typeface="FZKTPY01"/>
              </a:rPr>
              <a:t>的</a:t>
            </a:r>
            <a:r>
              <a:rPr b="1" lang="zh-CN" sz="4800" spc="-1" strike="noStrike">
                <a:solidFill>
                  <a:srgbClr val="00cc00"/>
                </a:solidFill>
                <a:latin typeface="FZKTPY01"/>
                <a:ea typeface="FZKTPY01"/>
              </a:rPr>
              <a:t>朋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友</a:t>
            </a:r>
            <a:r>
              <a:rPr b="1" lang="zh-CN" sz="4800" spc="-1" strike="noStrike">
                <a:solidFill>
                  <a:srgbClr val="ff0000"/>
                </a:solidFill>
                <a:latin typeface="FZKTPY01"/>
                <a:ea typeface="FZKTPY01"/>
              </a:rPr>
              <a:t>在这</a:t>
            </a:r>
            <a:r>
              <a:rPr b="1" lang="zh-CN" sz="4800" spc="-1" strike="noStrike">
                <a:solidFill>
                  <a:srgbClr val="ff6600"/>
                </a:solidFill>
                <a:latin typeface="FZKTPY01"/>
                <a:ea typeface="FZKTPY01"/>
              </a:rPr>
              <a:t>里</a:t>
            </a:r>
            <a:r>
              <a:rPr b="1" lang="en-US" sz="4800" spc="-1" strike="noStrike">
                <a:solidFill>
                  <a:srgbClr val="000000"/>
                </a:solidFill>
                <a:latin typeface="FZKTPY01"/>
                <a:ea typeface="FZKTPY01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一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二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三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四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五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上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山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找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虎</a:t>
            </a:r>
            <a:r>
              <a:rPr b="1" lang="zh-CN" sz="3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05740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虎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找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不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到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看  见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小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松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鼠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5760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松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鼠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有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几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只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？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一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二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FZKTPY01"/>
                <a:ea typeface="FZKTPY01"/>
              </a:rPr>
              <a:t>三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FZKTPY01"/>
                <a:ea typeface="FZKTPY01"/>
              </a:rPr>
              <a:t>四</a:t>
            </a:r>
            <a:r>
              <a:rPr b="1" lang="zh-CN" sz="3000" spc="-1" strike="noStrike">
                <a:solidFill>
                  <a:srgbClr val="00cc00"/>
                </a:solidFill>
                <a:latin typeface="FZKTPY01"/>
                <a:ea typeface="FZKTPY01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FZKTPY01"/>
                <a:ea typeface="FZKTPY01"/>
              </a:rPr>
              <a:t>五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一  二  三  四  五，上  山  找  老  虎</a:t>
            </a:r>
            <a:r>
              <a:rPr b="1" lang="zh-CN" sz="3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9051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老  虎  找  不  到，看  见  小  松  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65760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FZKTPY01"/>
                <a:ea typeface="FZKTPY01"/>
              </a:rPr>
              <a:t>松  鼠  有  几  只？一  二  三  四  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一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二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三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四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五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上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山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找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虎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20574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老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虎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找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不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到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看  见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小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松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鼠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65760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松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鼠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有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几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只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？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一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二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TSC UKai M TT"/>
                <a:ea typeface="TSC UKai M TT"/>
              </a:rPr>
              <a:t>三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TSC UKai M TT"/>
                <a:ea typeface="TSC UKai M TT"/>
              </a:rPr>
              <a:t>四</a:t>
            </a:r>
            <a:r>
              <a:rPr b="1" lang="zh-CN" sz="3000" spc="-1" strike="noStrike">
                <a:solidFill>
                  <a:srgbClr val="00cc00"/>
                </a:solidFill>
                <a:latin typeface="TSC UKai M TT"/>
                <a:ea typeface="TSC UKai M TT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TSC UKai M TT"/>
                <a:ea typeface="TSC UKai M TT"/>
              </a:rPr>
              <a:t>五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一  二  三  四  五，上  山  找  老  虎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20574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老  虎  找  不  到，看  见  小  松  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65760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SC UKai M TT"/>
                <a:ea typeface="TSC UKai M TT"/>
              </a:rPr>
              <a:t>松  鼠  有  几  只？一  二  三  四  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6870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FZKTPY01"/>
              </a:rPr>
              <a:t>写写看：拼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jǐ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h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209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ir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3962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1676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宋体"/>
              </a:rPr>
              <a:t>lăo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h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2209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sō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sh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zhă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335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kà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j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676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695240" cy="2200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0" y="533520"/>
            <a:ext cx="2362320" cy="1788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058160" y="1219320"/>
            <a:ext cx="1962000" cy="2590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666880" y="4343400"/>
            <a:ext cx="2238480" cy="1765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00600" y="3200400"/>
            <a:ext cx="2133720" cy="1778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2612880" y="1676520"/>
            <a:ext cx="1635120" cy="1904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7134120" y="4419720"/>
            <a:ext cx="2009880" cy="1711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1384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6:40:58Z</dcterms:created>
  <dc:creator>Ming S Tu</dc:creator>
  <dc:description/>
  <dc:language>en-US</dc:language>
  <cp:lastModifiedBy>Ming S Tu</cp:lastModifiedBy>
  <dcterms:modified xsi:type="dcterms:W3CDTF">2009-09-05T13:57:21Z</dcterms:modified>
  <cp:revision>33</cp:revision>
  <dc:subject/>
  <dc:title>一 二 三 四 五，上 山 找 老 虎  yī    èr   sān   sì   wǔ    shàng</dc:title>
</cp:coreProperties>
</file>