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775-A0A8-40E0-A3EB-12DF8996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4A5-D3EE-4C10-9ACD-C41F8700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AC7-B42A-48ED-961C-40089998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9B0-DA8D-4598-A5C3-07DE629E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114F-8ABC-4224-84AF-376AFBF3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F389-5D28-4DE6-BAC7-0033E6DD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3EFF-1EED-45C4-8EDC-35FA4A0E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B5AE-9D5F-41FC-A69E-3F25958A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C9AC-65E2-445C-B285-6030939A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F90D-F9A3-46B2-9904-A5795624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693F-ED81-4F20-97C1-2C71BD06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FFA-34F6-42BA-9FD4-8B1D2012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E9C6-D52E-4EDE-9900-DA568BC1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3687-EEC0-4616-A234-FAE13AB3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D6DF-63F3-4B30-86DC-9C7D0760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F180-ABE8-4082-9809-91709617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23DA-DC77-4C14-AB81-76D749D7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71F-2A1D-45AB-9C9A-2E49AFD3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AF1-6D7E-456F-AA6C-357F3094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665-630B-4F05-AFCC-6F9D48E2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AEC-8F00-4F7B-B18F-459D0BFD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BCC-A87E-4C36-96DE-34B9674B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DB3-D46C-4F55-87A2-6DEB3B82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55F-6F6A-4C72-98AF-B9AD709F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0FE7-A50D-4362-BD68-17E6C843A7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ADF8-9279-46C5-9BC4-D144206A415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FZKTPY01"/>
                <a:ea typeface="FZKTPY01"/>
              </a:rPr>
              <a:t>大家好</a:t>
            </a:r>
            <a:r>
              <a:rPr b="1" lang="en-US" sz="4400" spc="-1" strike="noStrike">
                <a:solidFill>
                  <a:srgbClr val="000000"/>
                </a:solidFill>
                <a:latin typeface="FZKTPY01"/>
                <a:ea typeface="FZKTPY01"/>
              </a:rPr>
              <a:t>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219320"/>
            <a:ext cx="71625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是杜老师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今年二十三岁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家里有三个人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爸爸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妈妈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还有我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喜欢跳舞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也喜欢吃水果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60960" cy="3810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29200" y="1905120"/>
            <a:ext cx="33526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ony the Tig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four legs, two ears, one tail, and lots of tee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is looking for a friend to play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Wingdings 3"/>
                <a:ea typeface="Wingdings 3"/>
              </a:rPr>
              <a:t>说说看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60960" cy="3810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410080" y="685800"/>
            <a:ext cx="3353040" cy="50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ony the Tige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这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老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has four legs, two ears, one tail, and lots of teeth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他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条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个耳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(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条尾巴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还有 许多 牙齿</a:t>
            </a:r>
            <a:r>
              <a:rPr b="1" lang="en-US" sz="2400" spc="-1" strike="noStrike">
                <a:solidFill>
                  <a:srgbClr val="000000"/>
                </a:solidFill>
                <a:latin typeface="FZPY01"/>
                <a:ea typeface="FZ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is looking for a friend to play wi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在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找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朋友跟他玩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1676520"/>
            <a:ext cx="3962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Simon the Squirr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three younger brothers, five older sisters, one mother, and one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likes to climb mountains looking for food to eat in the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914400"/>
            <a:ext cx="396252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Simon the Squirr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ZKTPY01"/>
                <a:ea typeface="FZKTPY01"/>
              </a:rPr>
              <a:t>这是</a:t>
            </a:r>
            <a:r>
              <a:rPr b="1" lang="en-US" sz="2800" spc="-1" strike="noStrike">
                <a:solidFill>
                  <a:srgbClr val="000000"/>
                </a:solidFill>
                <a:latin typeface="FZKTPY01"/>
                <a:ea typeface="FZKTPY01"/>
              </a:rPr>
              <a:t>Simon (</a:t>
            </a:r>
            <a:r>
              <a:rPr b="1" lang="zh-CN" sz="28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松鼠</a:t>
            </a:r>
            <a:r>
              <a:rPr b="1" lang="en-US" sz="2800" spc="-1" strike="noStrike">
                <a:solidFill>
                  <a:srgbClr val="000000"/>
                </a:solidFill>
                <a:latin typeface="FZKTPY01"/>
                <a:ea typeface="FZKTPY01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has three younger brothers, five older sisters, one mother, and one fa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弟弟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五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姐姐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妈妈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还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爸爸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likes to climb mountains looking for food to eat in the tr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喜欢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上山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在树林里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找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东西吃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ff6600"/>
                </a:solidFill>
                <a:latin typeface="FZKTPY01"/>
                <a:ea typeface="FZKTPY01"/>
              </a:rPr>
              <a:t>你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FZKTPY01"/>
                <a:ea typeface="FZKTPY01"/>
              </a:rPr>
              <a:t>生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日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FZKTPY01"/>
                <a:ea typeface="FZKTPY01"/>
              </a:rPr>
              <a:t>哪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一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天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2096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FZKTPY01"/>
                <a:ea typeface="FZKTPY01"/>
              </a:rPr>
              <a:t>生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日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FZKTPY01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    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日 </a:t>
            </a:r>
            <a:r>
              <a:rPr b="0" lang="en-US" sz="2400" spc="-1" strike="noStrike">
                <a:solidFill>
                  <a:srgbClr val="ff0000"/>
                </a:solidFill>
                <a:latin typeface="FZKTPY01"/>
                <a:ea typeface="FZKTPY01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号</a:t>
            </a:r>
            <a:r>
              <a:rPr b="0" lang="en-US" sz="2400" spc="-1" strike="noStrike">
                <a:solidFill>
                  <a:srgbClr val="ff0000"/>
                </a:solidFill>
                <a:latin typeface="FZKTPY01"/>
                <a:ea typeface="FZKTPY01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1986     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  <a:ea typeface="FZKTPY01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380988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u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=    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à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=    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iá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=   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1752480"/>
            <a:ext cx="4114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is is William.  He is a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day is May 20.  It is his birthday tod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 was born in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 likes to eat fruit.  Bananas are his favo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88956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一二三，三二一，一二三四五六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七个阿姨来摘果，七个花篮儿手中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七棵树上结七样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苹果、桃儿、石榴、柿子，李子、栗子</a:t>
            </a: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梨</a:t>
            </a: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759240"/>
            <a:ext cx="685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坡上立着一只鹅，坡下就是一条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宽宽的河，肥肥的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鹅要过河，河要渡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不知是鹅过河，还是河渡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4400" y="426960"/>
            <a:ext cx="777240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一个大嫂子，一个大小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嫂子跟大小子比包饺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看是大嫂子包的饺子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还是大小子包的饺子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再看大嫂子包的饺子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还是大小子包的饺子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嫂子包的饺子又小又好又不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小子包的饺子又小又少又不好</a:t>
            </a:r>
            <a:r>
              <a:rPr b="0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FZKTPY01"/>
              </a:rPr>
              <a:t>自我介绍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3880"/>
            <a:ext cx="74674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FZKTPY01"/>
              </a:rPr>
              <a:t>是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am…)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今</a:t>
            </a: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am… years old) ___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FZKTPY01"/>
              </a:rPr>
              <a:t>岁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家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有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n my family there are…  people)_____</a:t>
            </a: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人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喜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欢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like…)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609480"/>
            <a:ext cx="71629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二</a:t>
            </a: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四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六</a:t>
            </a: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1" lang="zh-CN" sz="48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800" spc="-1" strike="noStrike">
                <a:solidFill>
                  <a:srgbClr val="00cc00"/>
                </a:solidFill>
                <a:latin typeface="FZKTPY01"/>
                <a:ea typeface="FZKTPY01"/>
              </a:rPr>
              <a:t>朋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友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哪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1" lang="zh-CN" sz="48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800" spc="-1" strike="noStrike">
                <a:solidFill>
                  <a:srgbClr val="00cc00"/>
                </a:solidFill>
                <a:latin typeface="FZKTPY01"/>
                <a:ea typeface="FZKTPY01"/>
              </a:rPr>
              <a:t>朋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友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二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四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上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山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找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虎</a:t>
            </a:r>
            <a:r>
              <a:rPr b="1" lang="zh-CN" sz="3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05740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找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不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到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看  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小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松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鼠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松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鼠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有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几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只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？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二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四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一  二  三  四  五，上  山  找  老  虎</a:t>
            </a:r>
            <a:r>
              <a:rPr b="1" lang="zh-CN" sz="3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9051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老  虎  找  不  到，看  见  小  松  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松  鼠  有  几  只？一  二  三  四  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一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二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三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四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上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山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找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20574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找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不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到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看  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小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松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鼠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65760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松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鼠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有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几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只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？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一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二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三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四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一  二  三  四  五，上  山  找  老  虎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20574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老  虎  找  不  到，看  见  小  松  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松  鼠  有  几  只？一  二  三  四  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687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写写看：拼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jǐ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h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209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ir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3962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16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宋体"/>
              </a:rPr>
              <a:t>lă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209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sō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s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zhă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335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kà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j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6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695240" cy="2200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0" y="533520"/>
            <a:ext cx="2362320" cy="1788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058160" y="1219320"/>
            <a:ext cx="1962000" cy="2590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666880" y="4343400"/>
            <a:ext cx="2238480" cy="1765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00600" y="3200400"/>
            <a:ext cx="2133720" cy="177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612880" y="1676520"/>
            <a:ext cx="1635120" cy="1904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134120" y="4419720"/>
            <a:ext cx="2009880" cy="1711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138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6:40:58Z</dcterms:created>
  <dc:creator>Ming S Tu</dc:creator>
  <dc:description/>
  <dc:language>en-US</dc:language>
  <cp:lastModifiedBy>Ming S Tu</cp:lastModifiedBy>
  <dcterms:modified xsi:type="dcterms:W3CDTF">2009-09-05T13:57:21Z</dcterms:modified>
  <cp:revision>33</cp:revision>
  <dc:subject/>
  <dc:title>一 二 三 四 五，上 山 找 老 虎  yī    èr   sān   sì   wǔ    shàng</dc:title>
</cp:coreProperties>
</file>