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ct" ContentType="image/x-pict"/>
  <Override PartName="/ppt/media/image14.pct" ContentType="image/x-pict"/>
  <Override PartName="/ppt/media/image1.jpeg" ContentType="image/jpeg"/>
  <Override PartName="/ppt/media/image3.pct" ContentType="image/x-pict"/>
  <Override PartName="/ppt/media/image4.pct" ContentType="image/x-pict"/>
  <Override PartName="/ppt/media/image2.jpeg" ContentType="image/jpeg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8.pct" ContentType="image/x-pict"/>
  <Override PartName="/ppt/media/image13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9270-5368-465C-A2A6-556B7C3C0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3064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9EEC-1ADE-477A-AEDC-6C4192CAA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1216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DE29-AA98-433B-9927-808454A2B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5272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2000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5272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22000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9087-F7D9-492B-9EB6-F7DB07610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7A034-01FA-44DF-A72F-7F84D4FEB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E02B7-40E2-481F-AD59-0BF140DB4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96B08-8D80-4E67-B4A2-3448D06BC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4D6CC-0206-4DB8-B3A3-BAB3DFDA2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CD363-A31C-4165-ACC8-68138E832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E8305-0472-44EB-B6F2-5E490004A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02D18-D9BB-47F6-8BA3-EAFFA6C3F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D7A2-EE63-41E8-8D2B-D5D1A2661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1216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88991-C4DE-412C-BBE8-8067023EA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5AC1F-3B70-4F4F-9A83-11E07F905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440" y="413064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1DF20-542E-454A-87FD-ADDC9E68F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1216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0C119-2B38-4085-9994-FF9747255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95272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22000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44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95272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22000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00D1D-5E87-4AFA-820C-3ED15F867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8815-FB42-439E-A9F6-C63B829E0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144D-4EE9-40C7-B1F0-0073A7175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76BC-3FB4-4AC3-BE66-B6B846AF0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0450-239E-4F61-B366-47B7FC20E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23F4-AF19-46B4-810E-AAD21519A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216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2D26-5B93-4700-A719-9F51C08CF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CF6F-98F0-4A19-81E8-D0F584397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683280" indent="-262800">
              <a:spcBef>
                <a:spcPts val="799"/>
              </a:spcBef>
              <a:buClr>
                <a:srgbClr val="0e18f3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051560" indent="-210240">
              <a:spcBef>
                <a:spcPts val="799"/>
              </a:spcBef>
              <a:buClr>
                <a:srgbClr val="20cd02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472040" indent="-210240">
              <a:spcBef>
                <a:spcPts val="799"/>
              </a:spcBef>
              <a:buClr>
                <a:srgbClr val="eaef06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1892520" indent="-210240">
              <a:spcBef>
                <a:spcPts val="799"/>
              </a:spcBef>
              <a:buClr>
                <a:srgbClr val="ff8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1892520" indent="-21024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1892520" indent="-21024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747AF-8925-4E17-958A-0CCE8274024D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3AA4D-4142-4458-ACDF-CF844C10F426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 algn="ctr">
              <a:spcBef>
                <a:spcPts val="601"/>
              </a:spcBef>
              <a:buClr>
                <a:srgbClr val="20cd02"/>
              </a:buClr>
              <a:buFont typeface="Monotype Sorts" charset="2"/>
              <a:buChar char="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algn="ctr">
              <a:spcBef>
                <a:spcPts val="499"/>
              </a:spcBef>
              <a:buClr>
                <a:srgbClr val="eaef06"/>
              </a:buClr>
              <a:buFont typeface="Monotype Sorts" charset="2"/>
              <a:buChar char="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4" marL="1828800" algn="ctr">
              <a:spcBef>
                <a:spcPts val="499"/>
              </a:spcBef>
              <a:buClr>
                <a:srgbClr val="ff8000"/>
              </a:buClr>
              <a:buFont typeface="Monotype Sorts" charset="2"/>
              <a:buChar char="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ct"/><Relationship Id="rId3" Type="http://schemas.openxmlformats.org/officeDocument/2006/relationships/image" Target="../media/image4.pct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ct"/><Relationship Id="rId3" Type="http://schemas.openxmlformats.org/officeDocument/2006/relationships/image" Target="../media/image14.pct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ct"/><Relationship Id="rId3" Type="http://schemas.openxmlformats.org/officeDocument/2006/relationships/image" Target="../media/image4.pct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ct"/><Relationship Id="rId3" Type="http://schemas.openxmlformats.org/officeDocument/2006/relationships/image" Target="../media/image5.pct"/><Relationship Id="rId4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ct"/><Relationship Id="rId3" Type="http://schemas.openxmlformats.org/officeDocument/2006/relationships/image" Target="../media/image12.pct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562720" y="7621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4648320" y="2666880"/>
            <a:ext cx="3276360" cy="32767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28600" y="681840"/>
            <a:ext cx="4800600" cy="27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Happy Face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在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苹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zai4 ping2guo3    de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———————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he happy face is ON TO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of the ap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MA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________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066680" y="2362320"/>
            <a:ext cx="4013280" cy="42163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6172200" y="685800"/>
            <a:ext cx="23623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257800" y="419112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4724280" y="457200"/>
            <a:ext cx="3276720" cy="32767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28600" y="838080"/>
            <a:ext cx="4800600" cy="27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Happy Face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在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苹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zai4 ping2guo3    de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———————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he happy face is BELO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he ap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038480" y="243828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28600" y="838080"/>
            <a:ext cx="4800600" cy="28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Happy Face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在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苹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zai4 ping2guo3    de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———————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he happy face is in the CENTER of the ap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5257800" y="3733920"/>
            <a:ext cx="1041480" cy="104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895480" y="990720"/>
            <a:ext cx="3810240" cy="44449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914400" y="2920680"/>
            <a:ext cx="2133720" cy="12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——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D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914040" y="5105520"/>
            <a:ext cx="2895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  <a:ea typeface="宋体"/>
              </a:rPr>
              <a:t>——— </a:t>
            </a:r>
            <a:r>
              <a:rPr b="0" lang="zh-CN" sz="3200" spc="-1" strike="noStrike">
                <a:solidFill>
                  <a:srgbClr val="000000"/>
                </a:solidFill>
                <a:latin typeface="Century Gothic"/>
                <a:ea typeface="宋体"/>
              </a:rPr>
              <a:t>孩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  <a:ea typeface="宋体"/>
              </a:rPr>
              <a:t>KID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895480" y="380880"/>
            <a:ext cx="4953240" cy="38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JANUA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________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905120" y="2362320"/>
            <a:ext cx="50799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FEBRUA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________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895480" y="2514600"/>
            <a:ext cx="346572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MARCH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________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828800" y="2209680"/>
            <a:ext cx="55879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APRI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________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990720" y="2286000"/>
            <a:ext cx="6426000" cy="4292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1219320" y="3886200"/>
            <a:ext cx="320040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3T07:24:18Z</dcterms:created>
  <dc:creator>Gloria  Tu</dc:creator>
  <dc:description/>
  <dc:language>en-US</dc:language>
  <cp:lastModifiedBy>Gloria  Tu</cp:lastModifiedBy>
  <dcterms:modified xsi:type="dcterms:W3CDTF">2009-10-03T07:50:44Z</dcterms:modified>
  <cp:revision>1</cp:revision>
  <dc:subject/>
  <dc:title>PowerPoint Presentation</dc:title>
</cp:coreProperties>
</file>