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ct" ContentType="image/x-pict"/>
  <Override PartName="/ppt/media/image14.pct" ContentType="image/x-pict"/>
  <Override PartName="/ppt/media/image1.jpeg" ContentType="image/jpeg"/>
  <Override PartName="/ppt/media/image3.pct" ContentType="image/x-pict"/>
  <Override PartName="/ppt/media/image4.pct" ContentType="image/x-pict"/>
  <Override PartName="/ppt/media/image2.jpeg" ContentType="image/jpeg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1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FBA3-BBBF-4B69-ADCA-EFE246A40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DA6D-7903-4BF0-B991-90EB2A106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216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EE4A-8EB4-4592-807C-8BBC4929F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5272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2000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5272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2000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826A-567C-46DE-B1B4-EF4EEB695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F7312-5A0D-4B6D-97A5-63907FB3C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B8C20-98EE-4E70-9855-6610D6D18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D3F6B-0887-44FA-BEAF-D7E7C5690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7D97B-F05F-44EC-BDE3-C6DC1A7E0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E13F2-11DF-4AEA-A555-DA3E4991D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9F400-3CBA-46AE-96DC-41CC176EF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19334-69DD-4F30-AA76-D2165278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AE15-CADD-4EBB-88D4-0251CFB88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216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C4A28-32F4-47CB-915D-6D38EF58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AAEB8-DE3E-433A-A7DA-1403ABE9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F4A5D-E2EA-4378-B6E0-25335AB58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1216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6ED35-8455-4D39-A355-E6729539E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5272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2000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95272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22000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99F96-FF97-4FE9-A082-FF7812C09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4493-848F-410C-B8B2-514ED0750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5343-7C80-47E3-BABC-B017566D0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0B5A-25A7-41B9-943D-9B6CB7B72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33EE-FB17-4A18-8380-1B7D6690B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8E97-2605-46FB-B419-A38BF0C3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216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542C-529E-4F20-AEC8-4BC42668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D308-76A9-4227-B608-6379C4A4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683280" indent="-262800">
              <a:spcBef>
                <a:spcPts val="799"/>
              </a:spcBef>
              <a:buClr>
                <a:srgbClr val="0e18f3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051560" indent="-210240">
              <a:spcBef>
                <a:spcPts val="799"/>
              </a:spcBef>
              <a:buClr>
                <a:srgbClr val="20cd02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472040" indent="-210240">
              <a:spcBef>
                <a:spcPts val="799"/>
              </a:spcBef>
              <a:buClr>
                <a:srgbClr val="eaef06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1892520" indent="-210240">
              <a:spcBef>
                <a:spcPts val="799"/>
              </a:spcBef>
              <a:buClr>
                <a:srgbClr val="ff8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D9425-5485-4281-8A39-196141BBF17E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8476E-443E-4BD3-89A9-5F5D74CC5EA5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20cd02"/>
              </a:buClr>
              <a:buFont typeface="Monotype Sorts" charset="2"/>
              <a:buChar char="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eaef06"/>
              </a:buClr>
              <a:buFont typeface="Monotype Sorts" charset="2"/>
              <a:buChar char="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ff8000"/>
              </a:buClr>
              <a:buFont typeface="Monotype Sorts" charset="2"/>
              <a:buChar char="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ct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ct"/><Relationship Id="rId3" Type="http://schemas.openxmlformats.org/officeDocument/2006/relationships/image" Target="../media/image14.pct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ct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ct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ct"/><Relationship Id="rId3" Type="http://schemas.openxmlformats.org/officeDocument/2006/relationships/image" Target="../media/image12.pct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562720" y="7621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4648320" y="2666880"/>
            <a:ext cx="3276360" cy="3276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28600" y="681840"/>
            <a:ext cx="4800600" cy="27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Happy Face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苹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zai4 ping2guo3    de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———————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he happy face is ON TO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f the ap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MA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________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066680" y="2362320"/>
            <a:ext cx="4013280" cy="42163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172200" y="68580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257800" y="419112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724280" y="457200"/>
            <a:ext cx="3276720" cy="3276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28600" y="838080"/>
            <a:ext cx="4800600" cy="27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Happy Face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苹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zai4 ping2guo3    de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———————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he happy face is BEL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he ap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038480" y="243828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28600" y="838080"/>
            <a:ext cx="4800600" cy="28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Happy Face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苹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zai4 ping2guo3    de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———————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he happy face is in the CENTER of the ap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257800" y="3733920"/>
            <a:ext cx="1041480" cy="104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895480" y="990720"/>
            <a:ext cx="3810240" cy="4444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914400" y="2920680"/>
            <a:ext cx="2133720" cy="12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——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914040" y="5105520"/>
            <a:ext cx="289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  <a:ea typeface="宋体"/>
              </a:rPr>
              <a:t>——— </a:t>
            </a:r>
            <a:r>
              <a:rPr b="0" lang="zh-CN" sz="3200" spc="-1" strike="noStrike">
                <a:solidFill>
                  <a:srgbClr val="000000"/>
                </a:solidFill>
                <a:latin typeface="Century Gothic"/>
                <a:ea typeface="宋体"/>
              </a:rPr>
              <a:t>孩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  <a:ea typeface="宋体"/>
              </a:rPr>
              <a:t>KID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895480" y="380880"/>
            <a:ext cx="4953240" cy="38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JANUA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________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905120" y="2362320"/>
            <a:ext cx="5079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FEBRUA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________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895480" y="2514600"/>
            <a:ext cx="346572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MARC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________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828800" y="2209680"/>
            <a:ext cx="55879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APRI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________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990720" y="2286000"/>
            <a:ext cx="6426000" cy="4292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1219320" y="3886200"/>
            <a:ext cx="320040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3T07:24:18Z</dcterms:created>
  <dc:creator>Gloria  Tu</dc:creator>
  <dc:description/>
  <dc:language>en-US</dc:language>
  <cp:lastModifiedBy>Gloria  Tu</cp:lastModifiedBy>
  <dcterms:modified xsi:type="dcterms:W3CDTF">2009-10-03T07:50:44Z</dcterms:modified>
  <cp:revision>1</cp:revision>
  <dc:subject/>
  <dc:title>PowerPoint Presentation</dc:title>
</cp:coreProperties>
</file>