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878-3A37-45D3-A6E6-B20D92E0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858-F3D7-4848-844B-84057D8F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F74-9DEC-4AF7-A8F9-9070E234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4CB-2E08-4E3F-9DCA-BC9FFB1F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F893-7B0D-4CD8-8DFF-3D740995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A2B9-1C20-4F91-ACDD-F475934E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D6E9-A2A8-4544-BE96-274351E5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63F9-6D94-451C-97B2-1646D341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ABEB-DED1-429E-B740-FA92A4B7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12CE-B331-4D66-802C-265816C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BC52-0D27-453A-8CF3-0A312B6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5A8-4474-49CD-9958-8B60E348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1580-45AE-4769-8AD6-9CAB6549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CF01-7545-431F-A4EE-36836E0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2101-2F33-4B8C-B391-ED4C233C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7453-53E1-4892-A3DC-16299B15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DB96-8A78-4114-848C-D25D6921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249-8144-413F-99ED-2D95E1EB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2EE-3270-4541-84AF-5A33CB5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BDA-9335-4C5E-B308-1735B150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EF6-42F2-4CAD-A176-74DF8DC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B29-83C9-4331-BD51-5F50BBDC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9DD-7A80-46D0-8228-5B4793D5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889-7DD5-41D1-95D4-DAAEA54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A98F-5CE2-494A-9395-F9DA5CCE262D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E46E-FFED-4769-8952-DEFE93797697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8320" y="26668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81840"/>
            <a:ext cx="48006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ON 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f the 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4013280" cy="42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838080"/>
            <a:ext cx="48006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838080"/>
            <a:ext cx="48006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in the CENTER of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10414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95480" y="990720"/>
            <a:ext cx="3810240" cy="444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2920680"/>
            <a:ext cx="21337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51055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——— </a:t>
            </a:r>
            <a:r>
              <a:rPr b="0" lang="zh-CN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孩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KI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95480" y="380880"/>
            <a:ext cx="4953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JAN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BR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3465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PRI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6426000" cy="4292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3200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7:24:18Z</dcterms:created>
  <dc:creator>Gloria  Tu</dc:creator>
  <dc:description/>
  <dc:language>en-US</dc:language>
  <cp:lastModifiedBy>Gloria  Tu</cp:lastModifiedBy>
  <dcterms:modified xsi:type="dcterms:W3CDTF">2009-10-03T07:50:44Z</dcterms:modified>
  <cp:revision>1</cp:revision>
  <dc:subject/>
  <dc:title>PowerPoint Presentation</dc:title>
</cp:coreProperties>
</file>