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1.jpeg" ContentType="image/jpeg"/>
  <Override PartName="/ppt/media/image3.pct" ContentType="image/x-pict"/>
  <Override PartName="/ppt/media/image4.pct" ContentType="image/x-pict"/>
  <Override PartName="/ppt/media/image2.jpeg" ContentType="image/jpe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E584-0D21-48FB-8706-60921F76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50F-366F-4C8F-9803-8FDA3462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9B5-9329-474C-B7A7-B3D7F7E0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947A-ECC6-468A-B84C-51C4D55B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E4B4-8ACF-4A6A-8B9D-E2279830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A3CE-4C2C-4ED9-9672-B02292E4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86C5-5226-45B8-8734-750E8E98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C1A1-2ABD-4100-A90A-D84B2741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0925-E43C-4BF0-B512-7F4F5EB0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9BFF-2644-4236-8074-69E1AB18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E4AD-438C-46C5-81F6-81CB9A26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FC8-4595-48A5-A84F-F1BCC566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E155-C34E-432F-BD64-816775CE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F2A9-8653-4E60-A373-D81387C3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E074-2A04-47AF-9DC5-E64DCE9D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77E6-9ABA-4705-8B96-E504DCA7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A939-4975-435E-8677-F56A6C25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0F6-7011-4B70-AAAF-EC47CA0D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D9CF-BCC3-4071-9646-69E7896D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E306-D265-4483-ADFE-4C0EE3DF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C5C-997B-4581-B7AB-50EBEE5E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3207-99C2-4127-AD6A-DED94801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25F-0CC4-4912-8D84-F0CE61C9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1DA-0101-4509-8251-03D44641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83280" indent="-26280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51560" indent="-21024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72040" indent="-21024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92520" indent="-210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A79D-1345-4DF0-9BC5-E097444C943E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F5A8-AF72-417E-89BE-34A8E3D2A28F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562720" y="762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648320" y="26668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681840"/>
            <a:ext cx="480060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appy Face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苹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zai4 ping2guo3    de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happy face is ON T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f the ap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66680" y="2362320"/>
            <a:ext cx="4013280" cy="4216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172200" y="6858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257800" y="41911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724280" y="4572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" y="838080"/>
            <a:ext cx="480060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appy Face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苹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zai4 ping2guo3    de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happy face is BE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038480" y="24382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838080"/>
            <a:ext cx="480060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appy Face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苹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zai4 ping2guo3    de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happy face is in the CENTER of the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257800" y="3733920"/>
            <a:ext cx="104148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895480" y="990720"/>
            <a:ext cx="3810240" cy="4444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14400" y="2920680"/>
            <a:ext cx="213372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——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040" y="5105520"/>
            <a:ext cx="289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——— </a:t>
            </a:r>
            <a:r>
              <a:rPr b="0" lang="zh-CN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孩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KI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95480" y="380880"/>
            <a:ext cx="495324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JANU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05120" y="23623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EBRU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895480" y="2514600"/>
            <a:ext cx="34657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AR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58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PRI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6426000" cy="4292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219320" y="3886200"/>
            <a:ext cx="3200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7:24:18Z</dcterms:created>
  <dc:creator>Gloria  Tu</dc:creator>
  <dc:description/>
  <dc:language>en-US</dc:language>
  <cp:lastModifiedBy>Gloria  Tu</cp:lastModifiedBy>
  <dcterms:modified xsi:type="dcterms:W3CDTF">2009-10-03T07:50:44Z</dcterms:modified>
  <cp:revision>1</cp:revision>
  <dc:subject/>
  <dc:title>PowerPoint Presentation</dc:title>
</cp:coreProperties>
</file>