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7FB-4E8F-44B3-A13C-B05E96ED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77F-8DC0-4528-8A0A-ABC3BD7E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27E-EDCF-46ED-9463-1B6655EC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DD1-186A-4BAF-82B5-5DC3708A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0660-9B39-4078-BE05-DD8AD2D7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CD81-AD46-44DC-9D5A-27D0EBC8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3A9E-6B08-4D23-B8C1-450398B8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EDB9-D645-4E26-9D08-54DE019A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1EDA-AF6C-4D6E-8235-5CF7E24A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6B27-A028-4DB5-A732-37395747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00B6-A795-4577-8070-2B2F910F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7A7-683B-4570-9937-1F6ED921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8F14-7447-4983-9F65-0F58EA5A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5FBC-ED4A-43F1-BF16-18637576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0FB3-BFB2-42AE-84E4-303BA7FA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727D-3E08-452D-8A6C-BF7F3837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0DDD-29FB-4392-8A72-3E23D669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DF7-AF22-4D4B-A340-0222F402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E29-E27D-4E4E-8876-28B66247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C90-677E-467B-828F-A04E1C36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168-3DC2-4D57-81E7-40AD0550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735-1806-4A89-8B14-0B3F5D92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24F-9D00-449A-8E42-52E7374A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A0F-582B-405F-AC0A-86D6628D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3BC9-F434-4092-9133-68C7EA12C4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1B00-DEDA-4B07-8298-B9F4F32DA4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FZKTPY01"/>
                <a:ea typeface="FZKTPY01"/>
              </a:rPr>
              <a:t>大家好</a:t>
            </a:r>
            <a:r>
              <a:rPr b="1" lang="en-US" sz="4400" spc="-1" strike="noStrike">
                <a:solidFill>
                  <a:srgbClr val="000000"/>
                </a:solidFill>
                <a:latin typeface="FZKTPY01"/>
                <a:ea typeface="FZKTPY01"/>
              </a:rPr>
              <a:t>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是杜老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今年二十三岁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家里有三个人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爸爸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妈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还有我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喜欢跳舞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也喜欢吃水果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29200" y="1905120"/>
            <a:ext cx="33526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410080" y="685800"/>
            <a:ext cx="3353040" cy="50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这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老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他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条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个耳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条尾巴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 许多 牙齿</a:t>
            </a:r>
            <a:r>
              <a:rPr b="1" lang="en-US" sz="2400" spc="-1" strike="noStrike">
                <a:solidFill>
                  <a:srgbClr val="000000"/>
                </a:solidFill>
                <a:latin typeface="FZPY01"/>
                <a:ea typeface="FZ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在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朋友跟他玩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676520"/>
            <a:ext cx="3962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914400"/>
            <a:ext cx="39625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ZKTPY01"/>
                <a:ea typeface="FZKTPY01"/>
              </a:rPr>
              <a:t>这是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Simon (</a:t>
            </a:r>
            <a:r>
              <a:rPr b="1" lang="zh-CN" sz="28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松鼠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弟弟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姐姐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妈妈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爸爸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喜欢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上山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在树林里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东西吃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你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哪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天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2096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FZKTPY01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    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 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号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1986     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  <a:ea typeface="FZKTPY01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8098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=    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à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=    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iá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=   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1752480"/>
            <a:ext cx="4114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s is William.  He is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day is May 20.  It is his birthday to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was born in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likes to eat fruit.  Bananas are his favo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88956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二三，三二一，一二三四五六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个阿姨来摘果，七个花篮儿手中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棵树上结七样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苹果、桃儿、石榴、柿子，李子、栗子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梨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759240"/>
            <a:ext cx="685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坡上立着一只鹅，坡下就是一条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宽宽的河，肥肥的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鹅要过河，河要渡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不知是鹅过河，还是河渡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426960"/>
            <a:ext cx="77724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个大嫂子，一个大小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跟大小子比包饺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看是大嫂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再看大嫂子包的饺子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包的饺子又小又好又不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小子包的饺子又小又少又不好</a:t>
            </a:r>
            <a:r>
              <a:rPr b="0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FZKTPY01"/>
              </a:rPr>
              <a:t>自我介绍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74674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是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)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今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 years old) ___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岁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家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有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n my family there are…  people)_____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喜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欢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like…)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609480"/>
            <a:ext cx="71629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六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哪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05740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一  二  三  四  五，上  山  找  老  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9051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6576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一  二  三  四  五，上  山  找  老  虎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写写看：拼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jǐ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ir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3962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宋体"/>
              </a:rPr>
              <a:t>lă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sō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s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zhă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kà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j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695240" cy="2200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0" y="533520"/>
            <a:ext cx="2362320" cy="178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058160" y="1219320"/>
            <a:ext cx="1962000" cy="2590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2238480" cy="1765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00600" y="3200400"/>
            <a:ext cx="2133720" cy="177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612880" y="1676520"/>
            <a:ext cx="163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134120" y="4419720"/>
            <a:ext cx="2009880" cy="1711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138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6:40:58Z</dcterms:created>
  <dc:creator>Ming S Tu</dc:creator>
  <dc:description/>
  <dc:language>en-US</dc:language>
  <cp:lastModifiedBy>Ming S Tu</cp:lastModifiedBy>
  <dcterms:modified xsi:type="dcterms:W3CDTF">2009-09-05T13:57:21Z</dcterms:modified>
  <cp:revision>33</cp:revision>
  <dc:subject/>
  <dc:title>一 二 三 四 五，上 山 找 老 虎  yī    èr   sān   sì   wǔ    shàng</dc:title>
</cp:coreProperties>
</file>