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F26-7D90-44E7-8FAB-EE072004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29A-5674-4CFD-A4FA-C48F22A7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91B-4290-4F2E-84E1-42D8FCF1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EC6-7C9D-4ADB-A134-04BAC984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2F11-E7B2-4739-9A83-EE4EEA32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4CF9-D0CD-4AD8-A4B5-3E3BCC35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F106-AFB2-440A-B9CA-95E5EA5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C37B-26F0-4A86-8027-9838117C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C441-AC73-4597-9E4C-519FFDF3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5008-62CB-4A34-A262-417E96D3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8297-E71A-4C4F-A936-8D63F82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AC2-93C7-4E29-9D66-B1E9E10E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041A-7A8C-4450-B081-411E1631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7658-12EC-4F80-B1B2-01347D23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0444-174B-4537-B3C1-7FD65BD5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C5DC-A0CC-4DBB-8EBF-5FFEEC0E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8490-C527-4231-9A75-A3CABB87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AE9-740B-49A0-B3D6-7D6455D0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BBB-1515-4739-9F93-527B3BCB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ECD-8ECD-4841-BAAB-B69FAC91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FB3-B143-4932-B5A6-60912C14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3DD-2FB9-43E6-8E29-03F0D36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B2F-29B7-4E17-BC9C-D7210134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6AE-B1FF-4376-9965-7FADCC7A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7F76-9130-413E-9189-42BE90D8E7B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6E06-B032-4A91-BDC4-29002F6F14D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8320" y="26668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81840"/>
            <a:ext cx="48006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ON 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f the 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4013280" cy="42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838080"/>
            <a:ext cx="48006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838080"/>
            <a:ext cx="48006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in the CENTER of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10414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95480" y="990720"/>
            <a:ext cx="3810240" cy="444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2920680"/>
            <a:ext cx="21337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51055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——— </a:t>
            </a:r>
            <a:r>
              <a:rPr b="0" lang="zh-CN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孩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KI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95480" y="380880"/>
            <a:ext cx="4953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JAN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BR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3465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PRI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6426000" cy="4292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3200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7:24:18Z</dcterms:created>
  <dc:creator>Gloria  Tu</dc:creator>
  <dc:description/>
  <dc:language>en-US</dc:language>
  <cp:lastModifiedBy>Gloria  Tu</cp:lastModifiedBy>
  <dcterms:modified xsi:type="dcterms:W3CDTF">2009-10-03T07:50:44Z</dcterms:modified>
  <cp:revision>1</cp:revision>
  <dc:subject/>
  <dc:title>PowerPoint Presentation</dc:title>
</cp:coreProperties>
</file>