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561-E1A4-4E9B-8BC3-3E303249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B38-2DDD-4164-8CA3-87BB848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0E0-EAC9-4365-B73D-1F197061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0F7-FE85-411A-A534-381649AA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E9F6-79DF-4405-8F21-43BC044E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44C0-360B-4D3D-90BC-FC6C42B5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2AEB-2565-4DED-9D37-F4F63B26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5B80-B422-4CBA-BB40-BFF40A5F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7428-2024-44EE-96D8-A62AF48C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D503-E9AC-4EF9-ABF0-DE6025EE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A6F6-DEEA-462E-B4C3-4678246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3DB-F1BD-4EAD-AD58-CBDF95DE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D639-A674-4746-8035-4E3AF66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0384-E604-4512-B3AC-FAD2BD33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3402-C8BA-40F1-859C-3C4DD2C6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FE28-7B9D-4D41-84AD-BFF619A2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F54C-A84F-45E8-B041-77EBA2AB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E9C-95A4-423D-A6B2-AFED2957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44C-950B-4E85-AB47-7D8A7E9A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36D-1C71-4942-BE29-DC25CC8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8CD-CDD4-44F6-B1C9-F6960899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EBD-D821-4F0B-B788-633BCEEE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1D0-DE2D-488A-8E85-285E5CD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5DB-0F96-4D9A-851D-CD9D41DB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0231-B952-4A73-AEAB-BA1E7FA16CC5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6CFB-A8D2-4CF2-842C-8F53791BC3F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8320" y="26668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81840"/>
            <a:ext cx="48006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ON 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f the 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4013280" cy="42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838080"/>
            <a:ext cx="48006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838080"/>
            <a:ext cx="48006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in the CENTER of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10414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95480" y="990720"/>
            <a:ext cx="3810240" cy="444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2920680"/>
            <a:ext cx="21337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51055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——— </a:t>
            </a:r>
            <a:r>
              <a:rPr b="0" lang="zh-CN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孩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KI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95480" y="380880"/>
            <a:ext cx="4953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JAN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BR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3465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PRI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6426000" cy="4292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3200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7:24:18Z</dcterms:created>
  <dc:creator>Gloria  Tu</dc:creator>
  <dc:description/>
  <dc:language>en-US</dc:language>
  <cp:lastModifiedBy>Gloria  Tu</cp:lastModifiedBy>
  <dcterms:modified xsi:type="dcterms:W3CDTF">2009-10-03T07:50:44Z</dcterms:modified>
  <cp:revision>1</cp:revision>
  <dc:subject/>
  <dc:title>PowerPoint Presentation</dc:title>
</cp:coreProperties>
</file>