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E43-9834-42B3-B54E-3C687C9F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B0C-88C0-44EC-8F8E-6298F1CC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2E8-9E68-4FFE-8930-E5048D41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425-9F2D-4237-BCEF-AA853FCA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9381-BF55-4092-97AF-27C94C62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B2EB-9D0B-4977-8791-75ADFA6E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7587-4BBA-4E52-B183-F747636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C8C5-CFBE-422A-8799-50DDA456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AEB2-96FA-4127-961D-E330B464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AF7F-C663-4AA0-B380-1A6B39FE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91DF-1879-4377-9971-8575116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11E-2C3C-44FA-B677-08738469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E029-64A4-4626-94F5-E7F0FA1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A24F-4148-493A-B002-FAD1525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2126-0739-412B-B673-7253CD84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F997-ABCF-4A05-94D7-5E30B809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0A83-D314-4200-82E8-70D7EAB0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788-9A5C-4AC0-8C74-7EBF0E59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531-1CD7-44D8-9290-B4D02A8A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4E1-1775-43D2-B115-D320CD2D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0A9-D905-4CAC-A51E-D60632EB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F7E-D8ED-49D8-B4E6-E8E335C5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6B9-CE1D-4338-95F4-5A8BA2A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1BB-34D6-4DB4-A92D-CC00CDD8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2D9-EFB9-443A-8A19-E525DD5223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2255-F3AD-4215-AB78-4971E2F7B7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In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字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ook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念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書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ictures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圖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k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aps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睡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說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話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話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121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書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47676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覺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1480"/>
            <a:ext cx="48006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步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最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02920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飯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不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37688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歌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舞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903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Out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od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吃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飯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tep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跑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步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ong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唱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歌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Dance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跳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舞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all 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ructing a Sentenc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我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得 真 累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lay Ball Extremely Tired-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733920"/>
            <a:ext cx="8229600" cy="243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Who?  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oun)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) Does…?  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3) What?        -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(No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) Repeat V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5) Link            -</a:t>
            </a:r>
            <a:r>
              <a:rPr b="0" lang="zh-TW" sz="4000" spc="-1" strike="noStrike">
                <a:solidFill>
                  <a:srgbClr val="00cc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(Ad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6) Degree       -</a:t>
            </a:r>
            <a:r>
              <a:rPr b="0" lang="zh-TW" sz="4000" spc="-1" strike="noStrike">
                <a:solidFill>
                  <a:srgbClr val="6600cc"/>
                </a:solidFill>
                <a:latin typeface="Comic Sans MS"/>
              </a:rPr>
              <a:t>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 How?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Adj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d Color Repea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 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真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Adv. Deg. Ad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UST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REPEA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ACTION! 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我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球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真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.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Ad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De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圖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7816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字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305400" cy="39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7:06:43Z</dcterms:created>
  <dc:creator>Ming S Tu</dc:creator>
  <dc:description/>
  <dc:language>en-US</dc:language>
  <cp:lastModifiedBy>Ming S Tu</cp:lastModifiedBy>
  <dcterms:modified xsi:type="dcterms:W3CDTF">2010-02-11T20:09:12Z</dcterms:modified>
  <cp:revision>15</cp:revision>
  <dc:subject/>
  <dc:title>Slide 1</dc:title>
</cp:coreProperties>
</file>