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937-ACC6-4A56-8690-5A87F52C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9DA-7DCA-452B-BE3B-119F90C1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89A-B6D6-4FF7-93C2-023BFFF9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EA3-6802-49FA-96DD-08524D97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A6D9-2299-46A2-9AC0-4C6DE5CC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E27D-9D49-41D2-A06C-261EE6A0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4F68-EA5F-4FD6-8F0A-AFDAD9C0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4347-C0BB-423F-8F1C-31721D12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9550-D46D-4D49-BE65-A4F205F9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22BE-F98B-4CFC-8B1C-6E27D7A8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4E3C-6639-4777-9CEB-D60A82F1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74C-38D5-4341-AB92-E1C056E4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FE8E-6137-4D59-A80C-DDAF54C1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9D5A-D778-4390-BCB0-90D9B53A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E806-CA2E-4407-89B2-47A9C7F0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1EF7-0C47-430C-A052-37D434CA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FF2E-EBC3-4349-9901-9E636F07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EBD3-C5B7-4916-BE70-F6294430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6D1-BE63-4B69-8B4F-5E1BA0B3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4EC-0964-4572-BA9B-E117E1EB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7FE-538A-4857-9D78-2B600CDF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D80-958A-44FC-BDAB-EAE04115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C79-6FC7-432C-A7DF-C6A73073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B4D-8714-4FB3-91C1-B3AC0B09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09D8-8A24-4B6E-A1AF-4E01BE467E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5A02-D3C0-4785-8C1A-862AA0FEFA8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686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!!! Indoor Activiti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ords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寫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字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ooks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念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書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ictures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畫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圖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k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aps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睡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覺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ords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說</a:t>
            </a:r>
            <a:r>
              <a:rPr b="1" lang="zh-TW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話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說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話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說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31212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念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書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念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476760" cy="43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睡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覺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睡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超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1480"/>
            <a:ext cx="48006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跑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步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跑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最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02920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吃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飯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吃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不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37688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球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超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4864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唱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歌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唱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跳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舞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跳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903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686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!!! Outdoor Activiti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od 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吃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飯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teps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跑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步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ongs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唱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歌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Dances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跳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舞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all            </a:t>
            </a:r>
            <a:r>
              <a:rPr b="1" lang="zh-TW" sz="54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1" lang="zh-TW" sz="54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zh-TW" sz="28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b +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stands for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ue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stands for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tructing a Sentenc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我 </a:t>
            </a:r>
            <a:r>
              <a:rPr b="1" lang="zh-TW" sz="48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r>
              <a:rPr b="1" lang="zh-TW" sz="4800" spc="-1" strike="noStrike">
                <a:solidFill>
                  <a:srgbClr val="0033cc"/>
                </a:solidFill>
                <a:latin typeface="Comic Sans MS"/>
                <a:ea typeface="FZKai-Z03"/>
              </a:rPr>
              <a:t>球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r>
              <a:rPr b="1" lang="zh-TW" sz="4800" spc="-1" strike="noStrike">
                <a:solidFill>
                  <a:srgbClr val="ff0000"/>
                </a:solidFill>
                <a:latin typeface="Comic Sans MS"/>
                <a:ea typeface="FZKai-Z03"/>
              </a:rPr>
              <a:t>玩</a:t>
            </a:r>
            <a:r>
              <a:rPr b="1" lang="zh-TW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得 真 累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 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FZKai-Z03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FZKai-Z03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lay Ball Extremely Tired-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733920"/>
            <a:ext cx="8229600" cy="243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Who?           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我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oun)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) Does…?  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新細明體"/>
              </a:rPr>
              <a:t>–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Verb)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3) What?        -</a:t>
            </a:r>
            <a:r>
              <a:rPr b="0" lang="zh-TW" sz="40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(Nou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) Repeat V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新細明體"/>
              </a:rPr>
              <a:t>–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(Ver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5) Link            -</a:t>
            </a:r>
            <a:r>
              <a:rPr b="0" lang="zh-TW" sz="4000" spc="-1" strike="noStrike">
                <a:solidFill>
                  <a:srgbClr val="00cc00"/>
                </a:solidFill>
                <a:latin typeface="Comic Sans MS"/>
              </a:rPr>
              <a:t>得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(Adver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6) Degree       -</a:t>
            </a:r>
            <a:r>
              <a:rPr b="0" lang="zh-TW" sz="4000" spc="-1" strike="noStrike">
                <a:solidFill>
                  <a:srgbClr val="6600cc"/>
                </a:solidFill>
                <a:latin typeface="Comic Sans MS"/>
              </a:rPr>
              <a:t>真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 How?         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累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Adj.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d Color Repea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我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zh-TW" sz="4000" spc="-1" strike="noStrike">
                <a:solidFill>
                  <a:srgbClr val="0033cc"/>
                </a:solidFill>
                <a:latin typeface="Comic Sans MS"/>
              </a:rPr>
              <a:t>球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zh-TW" sz="4000" spc="-1" strike="noStrike">
                <a:solidFill>
                  <a:srgbClr val="ff0000"/>
                </a:solidFill>
                <a:latin typeface="Comic Sans MS"/>
              </a:rPr>
              <a:t>玩 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得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真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累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 Adv. Deg. Ad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UST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REPEA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ACTION! (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86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我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球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得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真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.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Adv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De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Ad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畫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圖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畫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78168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寫</a:t>
            </a:r>
            <a:r>
              <a:rPr b="1" lang="zh-TW" sz="4400" spc="-1" strike="noStrike">
                <a:solidFill>
                  <a:srgbClr val="0033cc"/>
                </a:solidFill>
                <a:latin typeface="Comic Sans MS"/>
                <a:ea typeface="FZKai-Z03"/>
              </a:rPr>
              <a:t>字</a:t>
            </a: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FZKai-Z03"/>
              </a:rPr>
              <a:t>寫</a:t>
            </a:r>
            <a:r>
              <a:rPr b="1" lang="zh-TW" sz="4400" spc="-1" strike="noStrike">
                <a:solidFill>
                  <a:srgbClr val="00cc00"/>
                </a:solidFill>
                <a:latin typeface="Comic Sans MS"/>
                <a:ea typeface="FZKai-Z03"/>
              </a:rPr>
              <a:t>得</a:t>
            </a:r>
            <a:r>
              <a:rPr b="1" lang="zh-TW" sz="4400" spc="-1" strike="noStrike">
                <a:solidFill>
                  <a:srgbClr val="6600cc"/>
                </a:solidFill>
                <a:latin typeface="Comic Sans MS"/>
                <a:ea typeface="FZKai-Z03"/>
              </a:rPr>
              <a:t>真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305400" cy="39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7:06:43Z</dcterms:created>
  <dc:creator>Ming S Tu</dc:creator>
  <dc:description/>
  <dc:language>en-US</dc:language>
  <cp:lastModifiedBy>Ming S Tu</cp:lastModifiedBy>
  <dcterms:modified xsi:type="dcterms:W3CDTF">2010-02-11T20:09:12Z</dcterms:modified>
  <cp:revision>15</cp:revision>
  <dc:subject/>
  <dc:title>Slide 1</dc:title>
</cp:coreProperties>
</file>