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173E-1831-4E5D-8AA3-4DF8C35D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0E2-2289-458B-8F82-3FDC4A30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D9A7-9753-48F1-B22C-611D7086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5AF-24BD-4E67-A5F3-28E7F441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E464-8236-4BB6-9C91-5938FA21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1D17-766B-4940-8BE9-88148BCC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36D2-FD83-4BAC-B115-24AC5DBF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5F8D-3AB7-44C4-BFAC-93C48F43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5251-C4F2-4D77-BADF-FE8F4035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F8A8-DB7D-45F8-98D2-434A6EAD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0206-8F28-4542-B9D8-9A00EE78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1E5-7713-47E9-A028-65413F34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620A-9E18-4229-B99C-EA239770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9FBB-DC5D-464A-BC7C-C0610D0E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17EA-DC38-4C8C-A58F-C5C7B434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B3CD-154F-45C5-9503-CCB2BA0E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90C2-4E4D-4B7B-80A9-3EF178AB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76C-50FE-48E4-B18D-37F1F33C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D0E-0CD8-436A-9BC6-0B09BC0D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1D59-06E5-4486-A969-952CD9B2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8E7-86B0-4CF4-B07A-DF79E177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30F8-ACD1-4877-87F5-6660C519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BF8-9002-4398-91B1-88BCECD3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0B9-CF42-4D80-9DBE-FF9903A6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B273-F498-4FBC-A570-B3CEDA0B8DA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C939-14BA-4FD4-AB9C-58C7C336104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038120"/>
            <a:ext cx="8686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!!! Indoor Activitie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Words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寫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字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ooks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念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書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ra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ictures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畫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圖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ak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aps 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睡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覺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Words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說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話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說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話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說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31212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念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書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念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真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476760" cy="43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睡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覺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睡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超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1480"/>
            <a:ext cx="480060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跑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步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跑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最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029200" cy="45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吃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飯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吃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不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37688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球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超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4864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唱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歌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唱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3416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跳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舞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跳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真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9039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038120"/>
            <a:ext cx="8686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!!! Outdoor Activitie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ood  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吃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飯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teps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跑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步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ongs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唱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歌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a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Dances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跳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舞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l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all   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球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stands for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R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ue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stands for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tructing a Sentenc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我 </a:t>
            </a:r>
            <a:r>
              <a:rPr b="1" lang="zh-TW" sz="48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</a:t>
            </a:r>
            <a:r>
              <a:rPr b="1" lang="zh-TW" sz="4800" spc="-1" strike="noStrike">
                <a:solidFill>
                  <a:srgbClr val="0033cc"/>
                </a:solidFill>
                <a:latin typeface="Comic Sans MS"/>
                <a:ea typeface="FZKai-Z03"/>
              </a:rPr>
              <a:t>球</a:t>
            </a: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</a:t>
            </a:r>
            <a:r>
              <a:rPr b="1" lang="zh-TW" sz="48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得 真 累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V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. </a:t>
            </a:r>
            <a:r>
              <a:rPr b="1" lang="en-US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.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V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.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lay Ball Extremely Tired-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3733920"/>
            <a:ext cx="8229600" cy="243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)Who?           -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我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oun)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2) Does…?   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新細明體"/>
              </a:rPr>
              <a:t>–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Verb)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3) What?        -</a:t>
            </a:r>
            <a:r>
              <a:rPr b="0" lang="zh-TW" sz="4000" spc="-1" strike="noStrike">
                <a:solidFill>
                  <a:srgbClr val="0033cc"/>
                </a:solidFill>
                <a:latin typeface="Comic Sans MS"/>
              </a:rPr>
              <a:t>球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(Nou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4) Repeat V.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新細明體"/>
              </a:rPr>
              <a:t>–</a:t>
            </a:r>
            <a:r>
              <a:rPr b="0" lang="zh-TW" sz="40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Ver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5) Link            -</a:t>
            </a:r>
            <a:r>
              <a:rPr b="0" lang="zh-TW" sz="4000" spc="-1" strike="noStrike">
                <a:solidFill>
                  <a:srgbClr val="00cc00"/>
                </a:solidFill>
                <a:latin typeface="Comic Sans MS"/>
              </a:rPr>
              <a:t>得 </a:t>
            </a: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(Adver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6) Degree       -</a:t>
            </a:r>
            <a:r>
              <a:rPr b="0" lang="zh-TW" sz="4000" spc="-1" strike="noStrike">
                <a:solidFill>
                  <a:srgbClr val="6600cc"/>
                </a:solidFill>
                <a:latin typeface="Comic Sans MS"/>
              </a:rPr>
              <a:t>真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) How?         -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累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Adj.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ed Color Repeat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我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)</a:t>
            </a:r>
            <a:r>
              <a:rPr b="0" lang="zh-TW" sz="40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)</a:t>
            </a:r>
            <a:r>
              <a:rPr b="0" lang="zh-TW" sz="4000" spc="-1" strike="noStrike">
                <a:solidFill>
                  <a:srgbClr val="0033cc"/>
                </a:solidFill>
                <a:latin typeface="Comic Sans MS"/>
              </a:rPr>
              <a:t>球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)</a:t>
            </a:r>
            <a:r>
              <a:rPr b="0" lang="zh-TW" sz="4000" spc="-1" strike="noStrike">
                <a:solidFill>
                  <a:srgbClr val="ff0000"/>
                </a:solidFill>
                <a:latin typeface="Comic Sans MS"/>
              </a:rPr>
              <a:t>玩 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得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真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累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.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 Adv. Deg. Adj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MUST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REPEA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ACTION! (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286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我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)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</a:rPr>
              <a:t>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球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)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</a:rPr>
              <a:t>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得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真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. 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1" lang="en-US" sz="3600" spc="-1" strike="noStrike">
                <a:solidFill>
                  <a:srgbClr val="00cc00"/>
                </a:solidFill>
                <a:latin typeface="Comic Sans MS"/>
              </a:rPr>
              <a:t>Adv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De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Adj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畫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圖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畫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78168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寫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字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寫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真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305400" cy="394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7:06:43Z</dcterms:created>
  <dc:creator>Ming S Tu</dc:creator>
  <dc:description/>
  <dc:language>en-US</dc:language>
  <cp:lastModifiedBy>Ming S Tu</cp:lastModifiedBy>
  <dcterms:modified xsi:type="dcterms:W3CDTF">2010-02-11T20:09:12Z</dcterms:modified>
  <cp:revision>15</cp:revision>
  <dc:subject/>
  <dc:title>Slide 1</dc:title>
</cp:coreProperties>
</file>