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55D5-295D-40EC-96D2-2EABBB63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26B6-FF52-4F78-8DBD-9EF7DADC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D614-BDE2-4B75-8102-0A64150E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6592-DF84-4531-9451-FA237BB4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E885-AA91-4BE9-A9B7-A01B8AC2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3BB7-8223-4261-BA1F-E0E86BA3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CC08-4D6B-4EFE-B1EF-BA6537DE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B77B-350F-4057-B2E3-1BFB07F6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25B4-1F84-4DF7-A32A-328368F3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ACAC-B9A2-4F89-B10F-43630056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350F-6E92-44D7-A288-714B38AE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1F76-1797-4065-ADE2-45B4AD43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4C20-F31D-41E6-BD86-A4EC14A6D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28920" y="1814400"/>
            <a:ext cx="4286160" cy="3229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PMingLiU"/>
              </a:rPr>
              <a:t>小狗跑得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PMingLiU"/>
              </a:rPr>
              <a:t>小鳥飛得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52640" y="1681200"/>
            <a:ext cx="52387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PMingLiU"/>
              </a:rPr>
              <a:t>烏龜走得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601956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PMingLiU"/>
              </a:rPr>
              <a:t>老師說得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4113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6933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30556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933960" cy="255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75438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55308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21:31:59Z</dcterms:created>
  <dc:creator>Ming S Tu</dc:creator>
  <dc:description/>
  <dc:language>en-US</dc:language>
  <cp:lastModifiedBy>Ming S Tu</cp:lastModifiedBy>
  <dcterms:modified xsi:type="dcterms:W3CDTF">2009-12-23T00:41:30Z</dcterms:modified>
  <cp:revision>3</cp:revision>
  <dc:subject/>
  <dc:title>小狗跑得快</dc:title>
</cp:coreProperties>
</file>