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7AC-417C-41D4-8988-8901BA3B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07C-C4A3-4ACD-A38B-13ACB6F5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9F6-BF9E-43A1-ADB2-6A3C6B9A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7B8-1CC2-41CB-9878-4F7573E9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548-9993-494E-A556-AD543DAC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95D-DDE2-4D22-B422-A77E8984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CBC-12A0-40CA-9296-E80546EC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0C06-DEBA-451A-954D-12A8E9EF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091-CCFD-48BD-8BBF-EBFD34A1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AD5-3E99-4FCA-8B7F-845FAB59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3107-D90F-4C7A-8617-08C4DE02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CEF-B583-47BC-BBC1-DD2406E2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DB84-725F-4193-8A7C-E50294FDE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28920" y="1814400"/>
            <a:ext cx="4286160" cy="3229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小狗跑得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小鳥飛得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52640" y="1681200"/>
            <a:ext cx="5238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烏龜走得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60195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老師說得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4113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93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933960" cy="255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75438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5530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1:31:59Z</dcterms:created>
  <dc:creator>Ming S Tu</dc:creator>
  <dc:description/>
  <dc:language>en-US</dc:language>
  <cp:lastModifiedBy>Ming S Tu</cp:lastModifiedBy>
  <dcterms:modified xsi:type="dcterms:W3CDTF">2009-12-23T00:41:30Z</dcterms:modified>
  <cp:revision>3</cp:revision>
  <dc:subject/>
  <dc:title>小狗跑得快</dc:title>
</cp:coreProperties>
</file>