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7F6-2B67-47B3-B895-24CFB36D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BF6-6205-446F-82C4-2A3B84C5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A88-12D0-4F87-9697-85E41F98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27F-F8A5-4486-A929-BDECCB31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3C0-B743-4FA1-A8BF-961F2564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3B5-1DB6-4EC4-9EC0-450ADF1C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E7B-CDA8-4C4A-A78F-4529DC27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FFE-3B79-40B6-AC67-A757872D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0BB-985D-40ED-964A-7F714FE9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B75-0124-41A5-B329-BBEE4EF5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30A-6217-492A-A349-62B5FCAA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703-2D80-460E-A19B-A8F574A4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19B-116F-4C2E-AF3E-B5AC7F6C9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28920" y="1814400"/>
            <a:ext cx="4286160" cy="3229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狗跑得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鳥飛得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52640" y="16812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烏龜走得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0195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老師說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11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25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5438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5530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1:31:59Z</dcterms:created>
  <dc:creator>Ming S Tu</dc:creator>
  <dc:description/>
  <dc:language>en-US</dc:language>
  <cp:lastModifiedBy>Ming S Tu</cp:lastModifiedBy>
  <dcterms:modified xsi:type="dcterms:W3CDTF">2009-12-23T00:41:30Z</dcterms:modified>
  <cp:revision>3</cp:revision>
  <dc:subject/>
  <dc:title>小狗跑得快</dc:title>
</cp:coreProperties>
</file>