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98D-480D-4A28-9E9E-06B404B2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E72-80A3-4E48-B6FA-427B861A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DDB-47EF-4FDF-8811-88B06FA4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1D9-9D71-4B87-9287-287D22D0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98A-E3A0-435B-8F4D-B6DE125A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58F-6D98-4433-B123-E0A3022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25F-C197-4BC2-B491-47964F37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6DC-AB29-4B5E-B5A4-F9C61A6F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EFE-8E21-4608-B259-2A683E77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658-E96E-4714-B210-155709A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EBF-C527-4107-9D45-5C034C83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396-6681-4B5F-B3B1-05C69C8B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18F1-04AD-4CB2-A089-B5ED57587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28920" y="1814400"/>
            <a:ext cx="4286160" cy="3229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狗跑得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鳥飛得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52640" y="16812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烏龜走得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0195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老師說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11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25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5438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5530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1:31:59Z</dcterms:created>
  <dc:creator>Ming S Tu</dc:creator>
  <dc:description/>
  <dc:language>en-US</dc:language>
  <cp:lastModifiedBy>Ming S Tu</cp:lastModifiedBy>
  <dcterms:modified xsi:type="dcterms:W3CDTF">2009-12-23T00:41:30Z</dcterms:modified>
  <cp:revision>3</cp:revision>
  <dc:subject/>
  <dc:title>小狗跑得快</dc:title>
</cp:coreProperties>
</file>