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0B2-E20D-4B74-9253-B9D659E1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036-B509-46BE-8560-15722C21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F6F-56C3-462D-B40A-8C5AFE8F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0B8-A106-4A2A-A137-B3D31408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53D-7976-45D2-B6C2-EEC21C6E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47B-433F-4DB3-834F-CEC23479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2AD-B04F-4043-9B8C-F09F96AF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119-BEA5-41A3-BF7D-1CF2AC6D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556-D749-4E8C-9028-10259DDD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51F-89B4-4746-B621-977170FA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F45-3220-48EB-84E8-8DA5A6A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303-6218-4FE9-84CE-79FAD74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9850-8F88-4331-9FDE-0E9CECDC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28920" y="1814400"/>
            <a:ext cx="4286160" cy="3229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狗跑得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鳥飛得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52640" y="16812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烏龜走得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0195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老師說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11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25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5438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5530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1:31:59Z</dcterms:created>
  <dc:creator>Ming S Tu</dc:creator>
  <dc:description/>
  <dc:language>en-US</dc:language>
  <cp:lastModifiedBy>Ming S Tu</cp:lastModifiedBy>
  <dcterms:modified xsi:type="dcterms:W3CDTF">2009-12-23T00:41:30Z</dcterms:modified>
  <cp:revision>3</cp:revision>
  <dc:subject/>
  <dc:title>小狗跑得快</dc:title>
</cp:coreProperties>
</file>